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424F4-3F1B-4764-89A9-D2B32498FC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8E5F-B85D-4331-B2AB-2211079F9C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F9136-8B48-478F-815A-EDE2984AC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6C13C-7B82-4B34-992C-F3118C98F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577A6-8411-42CE-8491-2CF233F95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94B41-CBC2-42EB-9EBB-FCD56D514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47AA2-823E-4767-BF8B-8B3598A06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10347-4FE0-4EF7-952D-971AFCDFD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A8E65-C367-4127-BF39-9798D15B6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1F6B8-6568-4B89-8D36-638B5B744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71AB9-9143-408A-9064-CD6095D6A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D0372-2374-4570-AFF1-C5BEA13AF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2EC68-5831-477E-995B-C7126D123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17185-A408-4936-857B-5A017FA10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CF91-6EE3-4C70-A6D1-DEE3E5F51B55}" type="datetime">
              <a:rPr b="1" lang="fr-FR" sz="1200" spc="-1" strike="noStrike">
                <a:solidFill>
                  <a:srgbClr val="000000"/>
                </a:solidFill>
                <a:latin typeface="Arial"/>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279B2-72FD-4E4F-ABED-F56B3409784F}"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BFBC1D59-0C9B-4D9D-8AA1-B0D6AD8CA99B}" type="datetime">
              <a:rPr b="1" lang="fr-FR" sz="1200" spc="-1" strike="noStrike">
                <a:solidFill>
                  <a:srgbClr val="000000"/>
                </a:solidFill>
                <a:latin typeface="Arial"/>
              </a:rPr>
              <a:t>28/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