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7BF-F65C-4069-9F42-C9CF99750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oy totalmente de acuer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287-E65C-4489-A11A-BC216458C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3E96-2A8D-4A7E-A916-DF5D9FB4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6459-B4E4-4CC9-B91B-11605A45C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B99E-4291-41D3-B210-FFF821110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2FBA-0A69-4BD6-B048-4DC8AFCB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C881-A65E-42C8-9802-4746BA442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5D09-F89F-4FD7-B75D-C5939935F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ED0-87AC-4D84-8120-EC6F9292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7E29-2272-4C62-8A12-27B1C754A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8D7D-1ACE-4AE0-9C95-8EAFD71F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F3DC-3C94-4F99-9880-83F000C8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91FF-9855-4D0D-9552-A9AE2637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6D1-8BBA-4AB0-8BB8-E3E663FB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9FC2-2CE8-41CA-BA33-82A6547B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D27-2AFD-42D7-9E4A-B859732C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9EEA-C51F-4DBE-9170-5F2025B6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4FC-4CDA-49A9-B5C8-CDF17C73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1DF-CB00-4059-8094-22968F15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D90-B074-4E67-8F19-F0904D80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5B0B-2523-44E1-A0BE-2230AB5E6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aasm.org/FullMadridProgramwithAbstracts.pdf" TargetMode="External"/><Relationship Id="rId2" Type="http://schemas.openxmlformats.org/officeDocument/2006/relationships/hyperlink" Target="http://www.iaasm.org/FullMadridProgramwithAbstracts.pdf" TargetMode="External"/><Relationship Id="rId3" Type="http://schemas.openxmlformats.org/officeDocument/2006/relationships/hyperlink" Target="http://www.iaasm.org/FullMadridProgramwithAbstracts.pdf" TargetMode="External"/><Relationship Id="rId4" Type="http://schemas.openxmlformats.org/officeDocument/2006/relationships/hyperlink" Target="http://www.iaasm.org/FullMadridProgramwithAbstracts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omento.es/NR/rdonlyres/2885E1B3-BCE3-4538-BE33-1F3D736667C6/41384/InformeULM2007.pdf accessed Aug 7,2009" TargetMode="External"/><Relationship Id="rId2" Type="http://schemas.openxmlformats.org/officeDocument/2006/relationships/hyperlink" Target="http://www.fomento.es/NR/rdonlyres/2885E1B3-BCE3-4538-BE33-1F3D736667C6/41384/InformeULM2007.pdf accessed Aug 7,2009" TargetMode="External"/><Relationship Id="rId3" Type="http://schemas.openxmlformats.org/officeDocument/2006/relationships/hyperlink" Target="http://www.fomento.es/NR/rdonlyres/2885E1B3-BCE3-4538-BE33-1F3D736667C6/41384/InformeULM2007.pdf accessed Aug 7,2009" TargetMode="External"/><Relationship Id="rId4" Type="http://schemas.openxmlformats.org/officeDocument/2006/relationships/hyperlink" Target="http://www.fomento.es/NR/rdonlyres/2885E1B3-BCE3-4538-BE33-1F3D736667C6/41384/InformeULM2007.pdf accessed Aug 7,2009" TargetMode="External"/><Relationship Id="rId5" Type="http://schemas.openxmlformats.org/officeDocument/2006/relationships/hyperlink" Target="http://www.fomento.es/NR/rdonlyres/2885E1B3-BCE3-4538-BE33-1F3D736667C6/41384/InformeULM2007.pdf accessed Aug 7,2009" TargetMode="External"/><Relationship Id="rId6" Type="http://schemas.openxmlformats.org/officeDocument/2006/relationships/hyperlink" Target="http://www.fomento.es/NR/rdonlyres/2885E1B3-BCE3-4538-BE33-1F3D736667C6/41384/InformeULM2007.pdf accessed Aug 7,2009" TargetMode="External"/><Relationship Id="rId7" Type="http://schemas.openxmlformats.org/officeDocument/2006/relationships/hyperlink" Target="http://www.fomento.es/NR/rdonlyres/2885E1B3-BCE3-4538-BE33-1F3D736667C6/41384/InformeULM2007.pdf accessed Aug 7,2009" TargetMode="External"/><Relationship Id="rId8" Type="http://schemas.openxmlformats.org/officeDocument/2006/relationships/hyperlink" Target="http://www.fomento.es/NR/rdonlyres/2885E1B3-BCE3-4538-BE33-1F3D736667C6/41384/InformeULM2007.pdf accessed Aug 7,2009" TargetMode="External"/><Relationship Id="rId9" Type="http://schemas.openxmlformats.org/officeDocument/2006/relationships/hyperlink" Target="http://www.fomento.es/NR/rdonlyres/2885E1B3-BCE3-4538-BE33-1F3D736667C6/41384/InformeULM2007.pdf accessed Aug 7,2009" TargetMode="External"/><Relationship Id="rId10" Type="http://schemas.openxmlformats.org/officeDocument/2006/relationships/hyperlink" Target="http://www.fomento.es/NR/rdonlyres/2885E1B3-BCE3-4538-BE33-1F3D736667C6/41384/InformeULM2007.pdf accessed Aug 7,2009" TargetMode="External"/><Relationship Id="rId11" Type="http://schemas.openxmlformats.org/officeDocument/2006/relationships/hyperlink" Target="http://www.fomento.es/NR/rdonlyres/2885E1B3-BCE3-4538-BE33-1F3D736667C6/41384/InformeULM2007.pdf accessed Aug 7,2009" TargetMode="External"/><Relationship Id="rId12" Type="http://schemas.openxmlformats.org/officeDocument/2006/relationships/hyperlink" Target="http://www.fomento.es/NR/rdonlyres/2885E1B3-BCE3-4538-BE33-1F3D736667C6/41384/InformeULM2007.pdf accessed Aug 7,2009" TargetMode="External"/><Relationship Id="rId13" Type="http://schemas.openxmlformats.org/officeDocument/2006/relationships/hyperlink" Target="http://www.fomento.es/NR/rdonlyres/2885E1B3-BCE3-4538-BE33-1F3D736667C6/41384/InformeULM2007.pdf accessed Aug 7,2009" TargetMode="Externa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557360"/>
            <a:ext cx="5256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aring ULM </a:t>
            </a:r>
            <a:br>
              <a:rPr sz="32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Microlight)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egulation and accidentology in two EU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4797000"/>
            <a:ext cx="3958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 Ortiz M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ain Delegate FAI-CI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AI-CIMP Conference Zagreb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6134040" y="476280"/>
            <a:ext cx="2470320" cy="576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 it seems to be the case in Gliding*, the level of medical requirements for the pilots seems not to correlate with the achieved safety in UL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raw data to gain evidence exist and are nowadays easier to obtain, but they are difficult to process statistically due to the differences in accident reporting and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suggested to perform analysis from the descriptions / basic data and not from the interpretations of the different national bod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324000" y="6237360"/>
            <a:ext cx="84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*Ortiz P, Panel 19 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ir Sports Medicine Médecine des sports aériens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ICASM Madrid 2001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aasm.or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FullMadridProgramwithAbstracts.pdf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accessed Aug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hanks !</a:t>
            </a:r>
            <a:br>
              <a:rPr sz="5400"/>
            </a:br>
            <a:br>
              <a:rPr sz="5400"/>
            </a:b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Hvala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29600" cy="324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port license requires an initial medical certificate stating absence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eight – height de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ardiovascular illnesses causing alteration of left ejection fraction and/or rythm at effort or at reco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volutionary pleuro pulmonary le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evere morphological static and/or dynamic alterations, particularly in dorso-lumbar vertebral column with risk of acute pathology or accelerated w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pilepsy, loss of consciousness, vertigo, equilibrium alt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Law 99-223, 23 march 1999, Art. 5 on health of sport and fight against d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- Code de Santé Publique (Art. L.3622-1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95280" y="5084640"/>
            <a:ext cx="8209080" cy="1321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not an aviation medical examination: all doctor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will make a decision on the cases were a pathology is present and the candidate asks for r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LM Medical Regulations in 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JAA FCL Class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Regul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Arial"/>
              </a:rPr>
              <a:t>DGAC, Orden ORDEN FOM/1267/2008 de 28 de abril (BOE 110, 6 May 2008)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5280" y="5084640"/>
            <a:ext cx="8352000" cy="707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It is an aviation medical examination: only authrised AMEs can perform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 The Federation Drs have no official role to p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273640" cy="392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Spa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557360"/>
          <a:ext cx="4753080" cy="3881520"/>
        </p:xfrm>
        <a:graphic>
          <a:graphicData uri="http://schemas.openxmlformats.org/drawingml/2006/table">
            <a:tbl>
              <a:tblPr/>
              <a:tblGrid>
                <a:gridCol w="4227480"/>
                <a:gridCol w="525600"/>
              </a:tblGrid>
              <a:tr h="70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psychological (stress, excess of confiden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 / 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meteorolog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: systems failure/disfunctionning including po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249"/>
          <p:cNvSpPr/>
          <p:nvPr/>
        </p:nvSpPr>
        <p:spPr>
          <a:xfrm>
            <a:off x="468360" y="5805360"/>
            <a:ext cx="82803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Adapted from : Min Fomento CIAIAC: Accidentalidad de ULM en España durante el año 2007 CIAIC ULM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http://www.fomento.es/NR/rdonlyres/2885E1B3-BCE3-4538-BE33-1F3D736667C6/41384/InformeULM2007.pdf accessed Aug 7,2009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77"/>
          <p:cNvSpPr/>
          <p:nvPr/>
        </p:nvSpPr>
        <p:spPr>
          <a:xfrm>
            <a:off x="7236000" y="2205000"/>
            <a:ext cx="1512720" cy="28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79"/>
          <p:cNvSpPr/>
          <p:nvPr/>
        </p:nvSpPr>
        <p:spPr>
          <a:xfrm>
            <a:off x="6156360" y="3213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80"/>
          <p:cNvSpPr/>
          <p:nvPr/>
        </p:nvSpPr>
        <p:spPr>
          <a:xfrm>
            <a:off x="6156360" y="2637000"/>
            <a:ext cx="72072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2"/>
          <p:cNvSpPr/>
          <p:nvPr/>
        </p:nvSpPr>
        <p:spPr>
          <a:xfrm flipV="1">
            <a:off x="6156360" y="4941720"/>
            <a:ext cx="792000" cy="2160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5"/>
          <p:cNvSpPr/>
          <p:nvPr/>
        </p:nvSpPr>
        <p:spPr>
          <a:xfrm>
            <a:off x="6227640" y="515772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86"/>
          <p:cNvSpPr/>
          <p:nvPr/>
        </p:nvSpPr>
        <p:spPr>
          <a:xfrm>
            <a:off x="6227640" y="3924360"/>
            <a:ext cx="360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87"/>
          <p:cNvSpPr/>
          <p:nvPr/>
        </p:nvSpPr>
        <p:spPr>
          <a:xfrm>
            <a:off x="6156360" y="38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88"/>
          <p:cNvSpPr/>
          <p:nvPr/>
        </p:nvSpPr>
        <p:spPr>
          <a:xfrm flipV="1">
            <a:off x="6156360" y="4436640"/>
            <a:ext cx="287280" cy="716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ses of ULM accidents Franc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68360" y="1197000"/>
          <a:ext cx="3672000" cy="3508200"/>
        </p:xfrm>
        <a:graphic>
          <a:graphicData uri="http://schemas.openxmlformats.org/drawingml/2006/table">
            <a:tbl>
              <a:tblPr/>
              <a:tblGrid>
                <a:gridCol w="2846520"/>
                <a:gridCol w="8254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behaviour, dec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skills fail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: med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vironment external 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45"/>
          <p:cNvSpPr/>
          <p:nvPr/>
        </p:nvSpPr>
        <p:spPr>
          <a:xfrm>
            <a:off x="6948360" y="1773360"/>
            <a:ext cx="1513080" cy="28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2"/>
          <p:cNvSpPr/>
          <p:nvPr/>
        </p:nvSpPr>
        <p:spPr>
          <a:xfrm>
            <a:off x="5940360" y="184464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3"/>
          <p:cNvSpPr/>
          <p:nvPr/>
        </p:nvSpPr>
        <p:spPr>
          <a:xfrm>
            <a:off x="5940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4"/>
          <p:cNvSpPr/>
          <p:nvPr/>
        </p:nvSpPr>
        <p:spPr>
          <a:xfrm>
            <a:off x="5940360" y="2349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55"/>
          <p:cNvSpPr/>
          <p:nvPr/>
        </p:nvSpPr>
        <p:spPr>
          <a:xfrm flipV="1">
            <a:off x="5940360" y="3715920"/>
            <a:ext cx="287280" cy="730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4"/>
          <p:cNvSpPr/>
          <p:nvPr/>
        </p:nvSpPr>
        <p:spPr>
          <a:xfrm>
            <a:off x="250920" y="6010200"/>
            <a:ext cx="8713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Adapted from: FFPULM  Mémo Sécurité du pilote ULM Ed. 10/2008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http://www.ffplum.com/Images/Upload/Securite/Annee%202008/MEMO%20SECURITE%202008_.pdf accessed Aug7, 2009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5"/>
          <p:cNvSpPr/>
          <p:nvPr/>
        </p:nvSpPr>
        <p:spPr>
          <a:xfrm flipV="1">
            <a:off x="5940360" y="4365720"/>
            <a:ext cx="287280" cy="7128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LM Acc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9120" y="981000"/>
          <a:ext cx="8229600" cy="3354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14240"/>
                <a:gridCol w="1622520"/>
                <a:gridCol w="1700280"/>
              </a:tblGrid>
              <a:tr h="116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umber of registered ULM aircrafts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ified accid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Rectangle 535"/>
          <p:cNvSpPr/>
          <p:nvPr/>
        </p:nvSpPr>
        <p:spPr>
          <a:xfrm>
            <a:off x="395280" y="4797360"/>
            <a:ext cx="8424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Spain: Min Fomento CIAIAC: Accidentalidad de ULM en España durante el año 2007 CIAIC UL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omento.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NR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rdonlyres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885E1B3-BCE3-4538-BE33-1F3D736667C6/41384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formeULM2007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.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df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accessed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Aug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 7,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France: Bureau Enquètes et Analyses  / http://www.bea.aero/etudes/securite2007/securite2007.html accessed Aug 7, 2009  and Aviation Civile / Aviation légère / Vol moteur ULM (secteur associatif) / http://www.aviation-civile.gouv.fr/html/avia_leg/statistiques/oac_stat2007_ulm.pdf accessed Aug 7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ccident / Aircraf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403280" y="1557360"/>
          <a:ext cx="6264360" cy="4032360"/>
        </p:xfrm>
        <a:graphic>
          <a:graphicData uri="http://schemas.openxmlformats.org/drawingml/2006/table">
            <a:tbl>
              <a:tblPr/>
              <a:tblGrid>
                <a:gridCol w="2089080"/>
                <a:gridCol w="2086200"/>
                <a:gridCol w="2089080"/>
              </a:tblGrid>
              <a:tr h="743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ident / Aircraf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4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5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4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7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5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2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38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faf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F T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hough the limitations in the methodology and statistical approach, it seems that different regulatory approaches only result in number of participants and not in th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viation authorities apply different analysis methodologies in EU; Eventually EASA might bring a  coordinated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9:33:19Z</dcterms:created>
  <dc:creator>PEDRO.ORTIZ</dc:creator>
  <dc:description/>
  <dc:language>en-US</dc:language>
  <cp:lastModifiedBy>Fustis</cp:lastModifiedBy>
  <dcterms:modified xsi:type="dcterms:W3CDTF">2014-05-03T11:11:36Z</dcterms:modified>
  <cp:revision>47</cp:revision>
  <dc:subject/>
  <dc:title>Thoughts on ULM regulation and accidentology </dc:title>
</cp:coreProperties>
</file>