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4108-7EE4-496E-A6DE-C5087997588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hr viele = 6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weit =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 kurz = 16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t = 2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4296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52040" y="129528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3352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4296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52040" y="3804840"/>
            <a:ext cx="2675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94920" y="228240"/>
            <a:ext cx="75200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1240" y="380484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240" y="1295280"/>
            <a:ext cx="405468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804840"/>
            <a:ext cx="83088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263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JK06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08000" y="0"/>
            <a:ext cx="1224000" cy="1450440"/>
            <a:chOff x="-108000" y="0"/>
            <a:chExt cx="1224000" cy="1450440"/>
          </a:xfrm>
        </p:grpSpPr>
        <p:sp>
          <p:nvSpPr>
            <p:cNvPr id="5" name=""/>
            <p:cNvSpPr/>
            <p:nvPr/>
          </p:nvSpPr>
          <p:spPr>
            <a:xfrm>
              <a:off x="-637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-108000" y="0"/>
              <a:ext cx="1224000" cy="1450440"/>
              <a:chOff x="-108000" y="0"/>
              <a:chExt cx="1224000" cy="1450440"/>
            </a:xfrm>
          </p:grpSpPr>
          <p:sp>
            <p:nvSpPr>
              <p:cNvPr id="7" name=""/>
              <p:cNvSpPr/>
              <p:nvPr/>
            </p:nvSpPr>
            <p:spPr>
              <a:xfrm>
                <a:off x="-10800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-64080" y="0"/>
                <a:ext cx="1180080" cy="1450440"/>
                <a:chOff x="-64080" y="0"/>
                <a:chExt cx="1180080" cy="1450440"/>
              </a:xfrm>
            </p:grpSpPr>
            <p:pic>
              <p:nvPicPr>
                <p:cNvPr id="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6408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-6408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1" name=""/>
              <p:cNvSpPr/>
              <p:nvPr/>
            </p:nvSpPr>
            <p:spPr>
              <a:xfrm>
                <a:off x="7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85680"/>
            <a:ext cx="8642160" cy="53294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0"/>
            <a:ext cx="1223640" cy="1450440"/>
            <a:chOff x="0" y="0"/>
            <a:chExt cx="1223640" cy="1450440"/>
          </a:xfrm>
        </p:grpSpPr>
        <p:sp>
          <p:nvSpPr>
            <p:cNvPr id="51" name=""/>
            <p:cNvSpPr/>
            <p:nvPr/>
          </p:nvSpPr>
          <p:spPr>
            <a:xfrm>
              <a:off x="43920" y="183240"/>
              <a:ext cx="1179720" cy="115992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0" y="0"/>
              <a:ext cx="1223640" cy="1450440"/>
              <a:chOff x="0" y="0"/>
              <a:chExt cx="1223640" cy="145044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470160"/>
                <a:ext cx="12218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3560" y="0"/>
                <a:ext cx="1180080" cy="1450440"/>
                <a:chOff x="43560" y="0"/>
                <a:chExt cx="1180080" cy="1450440"/>
              </a:xfrm>
            </p:grpSpPr>
            <p:pic>
              <p:nvPicPr>
                <p:cNvPr id="5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560" y="0"/>
                  <a:ext cx="1180080" cy="14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3560" y="212040"/>
                  <a:ext cx="1142640" cy="108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" name=""/>
              <p:cNvSpPr/>
              <p:nvPr/>
            </p:nvSpPr>
            <p:spPr>
              <a:xfrm>
                <a:off x="115560" y="353520"/>
                <a:ext cx="979560" cy="9554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FAI-CIMP 2008</a:t>
            </a: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 Accident Rates in COMPETITION FLYING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720" y="5300640"/>
            <a:ext cx="352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123640" y="1916280"/>
            <a:ext cx="454356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Phase of fligh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Level of Inju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Injur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04920" y="91440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Phase of Fligh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990720"/>
          <a:ext cx="853452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0720"/>
                    <a:ext cx="85345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Victims (23)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304920" y="1066680"/>
          <a:ext cx="85341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85341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597204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37396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60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f accidents without inj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55%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s while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utla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44 %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o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ery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ccident: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8989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02680" cy="51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here are glider accidents in competit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 about 1/3 of the accidents pilots get ki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anding accidents are No.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landing: a risk, not enough resp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d. Emergency Treatment Concep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n Base:  anticipat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Off Base:  to be impro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idents on Ba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Special preparation required! (Train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Consider modern Standards / Responsibiliti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E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52360" y="981000"/>
            <a:ext cx="79916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Questions, Comments?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eromednews@t-online.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150840"/>
            <a:ext cx="7520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125360"/>
            <a:ext cx="4318200" cy="5109840"/>
            <a:chOff x="2340000" y="1125360"/>
            <a:chExt cx="4318200" cy="5109840"/>
          </a:xfrm>
        </p:grpSpPr>
        <p:sp>
          <p:nvSpPr>
            <p:cNvPr id="226" name=""/>
            <p:cNvSpPr/>
            <p:nvPr/>
          </p:nvSpPr>
          <p:spPr>
            <a:xfrm>
              <a:off x="2495160" y="1771560"/>
              <a:ext cx="4163040" cy="408708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340000" y="1125360"/>
              <a:ext cx="4317120" cy="5109840"/>
              <a:chOff x="2340000" y="1125360"/>
              <a:chExt cx="4317120" cy="5109840"/>
            </a:xfrm>
          </p:grpSpPr>
          <p:sp>
            <p:nvSpPr>
              <p:cNvPr id="228" name=""/>
              <p:cNvSpPr/>
              <p:nvPr/>
            </p:nvSpPr>
            <p:spPr>
              <a:xfrm>
                <a:off x="2340000" y="2781720"/>
                <a:ext cx="43117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4800" spc="-1" strike="noStrike">
                    <a:solidFill>
                      <a:srgbClr val="ffffff"/>
                    </a:solidFill>
                    <a:latin typeface="Verdana"/>
                    <a:ea typeface="Arial"/>
                  </a:rPr>
                  <a:t>  </a:t>
                </a:r>
                <a:endParaRPr b="0" lang="en-US" sz="4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9" name=""/>
              <p:cNvGrpSpPr/>
              <p:nvPr/>
            </p:nvGrpSpPr>
            <p:grpSpPr>
              <a:xfrm>
                <a:off x="2493720" y="1125360"/>
                <a:ext cx="4163400" cy="5109840"/>
                <a:chOff x="2493720" y="1125360"/>
                <a:chExt cx="4163400" cy="5109840"/>
              </a:xfrm>
            </p:grpSpPr>
            <p:pic>
              <p:nvPicPr>
                <p:cNvPr id="23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93720" y="1125360"/>
                  <a:ext cx="4163400" cy="5109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93720" y="1873080"/>
                  <a:ext cx="4031280" cy="3814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32" name=""/>
              <p:cNvSpPr/>
              <p:nvPr/>
            </p:nvSpPr>
            <p:spPr>
              <a:xfrm>
                <a:off x="2747880" y="2371320"/>
                <a:ext cx="3457080" cy="336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664920" y="251316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Admin EAS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ld JAR FCL general Syllabu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imilar to Annex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o Updates so f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Questionable: HF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ew EASA Post: - HF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o far no practical advice for Gen Av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cientific backround, resource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603440" y="4971960"/>
            <a:ext cx="5937120" cy="16574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21120" y="5421240"/>
            <a:ext cx="0" cy="149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76440" y="5857920"/>
            <a:ext cx="0" cy="336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922480" y="5661000"/>
            <a:ext cx="92556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6840" y="6058080"/>
            <a:ext cx="2395800" cy="188640"/>
          </a:xfrm>
          <a:custGeom>
            <a:avLst/>
            <a:gdLst/>
            <a:ahLst/>
            <a:rect l="l" t="t" r="r" b="b"/>
            <a:pathLst>
              <a:path w="1990" h="249">
                <a:moveTo>
                  <a:pt x="0" y="229"/>
                </a:moveTo>
                <a:lnTo>
                  <a:pt x="0" y="0"/>
                </a:lnTo>
                <a:lnTo>
                  <a:pt x="1989" y="0"/>
                </a:lnTo>
                <a:lnTo>
                  <a:pt x="1989" y="2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0520" y="6156360"/>
            <a:ext cx="95868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8080" y="6135840"/>
            <a:ext cx="766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ceptu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24280" y="6151680"/>
            <a:ext cx="92376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90520" y="6135840"/>
            <a:ext cx="792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kill-Bas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76440" y="5575320"/>
            <a:ext cx="3022920" cy="154080"/>
          </a:xfrm>
          <a:custGeom>
            <a:avLst/>
            <a:gdLst/>
            <a:ahLst/>
            <a:rect l="l" t="t" r="r" b="b"/>
            <a:pathLst>
              <a:path w="2929" h="151">
                <a:moveTo>
                  <a:pt x="0" y="117"/>
                </a:moveTo>
                <a:lnTo>
                  <a:pt x="0" y="0"/>
                </a:lnTo>
                <a:lnTo>
                  <a:pt x="2928" y="0"/>
                </a:lnTo>
                <a:lnTo>
                  <a:pt x="2928" y="150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55920" y="5076720"/>
            <a:ext cx="1116360" cy="37800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17800" y="5661000"/>
            <a:ext cx="927000" cy="3222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01720" y="6151680"/>
            <a:ext cx="922320" cy="3538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8240" y="6134040"/>
            <a:ext cx="638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Dec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rr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9520" y="6058080"/>
            <a:ext cx="1203480" cy="136440"/>
          </a:xfrm>
          <a:custGeom>
            <a:avLst/>
            <a:gdLst/>
            <a:ahLst/>
            <a:rect l="l" t="t" r="r" b="b"/>
            <a:pathLst>
              <a:path w="1001" h="182">
                <a:moveTo>
                  <a:pt x="0" y="167"/>
                </a:moveTo>
                <a:lnTo>
                  <a:pt x="0" y="0"/>
                </a:lnTo>
                <a:lnTo>
                  <a:pt x="1000" y="0"/>
                </a:lnTo>
                <a:lnTo>
                  <a:pt x="1000" y="181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18160" y="6149880"/>
            <a:ext cx="9255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70360" y="6210360"/>
            <a:ext cx="822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Excep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560" y="6154560"/>
            <a:ext cx="925560" cy="3477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94320" y="6208560"/>
            <a:ext cx="611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outin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99360" y="5851440"/>
            <a:ext cx="0" cy="192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9200" y="5651640"/>
            <a:ext cx="927360" cy="32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30360" y="5711760"/>
            <a:ext cx="731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279440"/>
            <a:ext cx="5181840" cy="1357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00360" y="1946160"/>
            <a:ext cx="3786120" cy="16056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1757520"/>
            <a:ext cx="0" cy="18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5400" y="1946160"/>
            <a:ext cx="0" cy="128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4280" y="1932120"/>
            <a:ext cx="0" cy="142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41600" y="2050920"/>
            <a:ext cx="104796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8968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2050920"/>
            <a:ext cx="981000" cy="4683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68640" y="2055960"/>
            <a:ext cx="984240" cy="4680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6040" y="2101680"/>
            <a:ext cx="82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dequ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89480" y="2021040"/>
            <a:ext cx="94968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lanne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Inappropri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per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680" y="2021040"/>
            <a:ext cx="65844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Failed t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orrec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ble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5360" y="2097000"/>
            <a:ext cx="836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perviso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Viol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14720" y="1353960"/>
            <a:ext cx="1346400" cy="46692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27000" bIns="27000" anchor="b" anchorCtr="1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PERVIS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712960"/>
            <a:ext cx="7010640" cy="21844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00320" y="3514680"/>
            <a:ext cx="3543480" cy="149400"/>
          </a:xfrm>
          <a:custGeom>
            <a:avLst/>
            <a:gdLst/>
            <a:ahLst/>
            <a:rect l="l" t="t" r="r" b="b"/>
            <a:pathLst>
              <a:path w="2877" h="149">
                <a:moveTo>
                  <a:pt x="0" y="116"/>
                </a:moveTo>
                <a:lnTo>
                  <a:pt x="0" y="0"/>
                </a:lnTo>
                <a:lnTo>
                  <a:pt x="2876" y="0"/>
                </a:lnTo>
                <a:lnTo>
                  <a:pt x="2876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00ffff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849920" y="3338280"/>
            <a:ext cx="3240" cy="1695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28560" y="283212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00320" y="4052880"/>
            <a:ext cx="0" cy="331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11160" y="4178160"/>
            <a:ext cx="259092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76440" y="3619440"/>
            <a:ext cx="123840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Condition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4640" y="2820960"/>
            <a:ext cx="1873440" cy="5572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81040" y="2843280"/>
            <a:ext cx="12499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PRECONDI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FO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UNSAFE AC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629400" y="4052880"/>
            <a:ext cx="1440" cy="150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35680" y="4178160"/>
            <a:ext cx="1388880" cy="201600"/>
          </a:xfrm>
          <a:custGeom>
            <a:avLst/>
            <a:gdLst/>
            <a:ahLst/>
            <a:rect l="l" t="t" r="r" b="b"/>
            <a:pathLst>
              <a:path w="1789" h="153">
                <a:moveTo>
                  <a:pt x="0" y="140"/>
                </a:moveTo>
                <a:lnTo>
                  <a:pt x="0" y="0"/>
                </a:lnTo>
                <a:lnTo>
                  <a:pt x="1788" y="0"/>
                </a:lnTo>
                <a:lnTo>
                  <a:pt x="1788" y="152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48080" y="4308480"/>
            <a:ext cx="111276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76440" y="4268880"/>
            <a:ext cx="1252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Physiologic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750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68560" y="4268880"/>
            <a:ext cx="113040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hysical/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Limita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7240" y="4309920"/>
            <a:ext cx="1109520" cy="462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51000" y="4343400"/>
            <a:ext cx="107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Adverse Mental Stat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67640" y="4305240"/>
            <a:ext cx="1112760" cy="4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4343400"/>
            <a:ext cx="1074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ersonal Readin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67160" y="4308480"/>
            <a:ext cx="1283040" cy="4636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05240" y="4338720"/>
            <a:ext cx="1405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rew Resource Mis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05520" y="3621240"/>
            <a:ext cx="1262160" cy="47124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noAutofit/>
          </a:bodyPr>
          <a:p>
            <a:pPr algn="ctr"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Substandard Practices of Operator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9080" y="76320"/>
            <a:ext cx="3886200" cy="113004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bba58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0240" y="625320"/>
            <a:ext cx="2590920" cy="139680"/>
          </a:xfrm>
          <a:custGeom>
            <a:avLst/>
            <a:gdLst/>
            <a:ahLst/>
            <a:rect l="l" t="t" r="r" b="b"/>
            <a:pathLst>
              <a:path w="2609" h="149">
                <a:moveTo>
                  <a:pt x="0" y="104"/>
                </a:moveTo>
                <a:lnTo>
                  <a:pt x="0" y="0"/>
                </a:lnTo>
                <a:lnTo>
                  <a:pt x="2608" y="0"/>
                </a:lnTo>
                <a:lnTo>
                  <a:pt x="2608" y="148"/>
                </a:lnTo>
              </a:path>
            </a:pathLst>
          </a:custGeom>
          <a:noFill/>
          <a:ln cap="rnd"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6228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34640" y="752400"/>
            <a:ext cx="8931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Resourc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Manage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692280"/>
            <a:ext cx="1109880" cy="43956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86360" y="73332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Climat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2320" y="717480"/>
            <a:ext cx="1041480" cy="439920"/>
          </a:xfrm>
          <a:prstGeom prst="rect">
            <a:avLst/>
          </a:prstGeom>
          <a:solidFill>
            <a:srgbClr val="eaea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3200" y="752400"/>
            <a:ext cx="1001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a4"/>
                </a:solidFill>
                <a:latin typeface="Times New Roman"/>
              </a:rPr>
              <a:t>Pro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438120"/>
            <a:ext cx="1440" cy="17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0560" y="287280"/>
            <a:ext cx="1440" cy="9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24280" y="125280"/>
            <a:ext cx="1495440" cy="424080"/>
          </a:xfrm>
          <a:prstGeom prst="ellipse">
            <a:avLst/>
          </a:prstGeom>
          <a:solidFill>
            <a:srgbClr val="fd09a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60640" y="152280"/>
            <a:ext cx="1376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ORGANIZAT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INFLUEN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21040" y="511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47920" y="2867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8240" y="129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684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94160" y="189000"/>
            <a:ext cx="14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FA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20640" y="6607080"/>
            <a:ext cx="22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Modified and adapted by Shappell 20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fade thruBlk="true"/>
      </p:transition>
    </mc:Choice>
    <mc:Fallback>
      <p:transition spd="slow">
        <p:fade thruBlk="true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Percentage of recommendations</a:t>
            </a:r>
            <a:br>
              <a:rPr sz="2400"/>
            </a:br>
            <a:r>
              <a:rPr b="0" lang="de-DE" sz="2400" spc="-1" strike="noStrike">
                <a:solidFill>
                  <a:srgbClr val="ffff00"/>
                </a:solidFill>
                <a:latin typeface="Arial"/>
              </a:rPr>
              <a:t>associated with each intervention categor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Intervention Category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        %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Administrative/Organizational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4.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ules/Regulations/Polici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.2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formation management/ Comm.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3.7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Research/Special study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.44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Human resource management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9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Mechanical/Engineering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31.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Design/Repair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3.1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Inspection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03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uman/Crew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11.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Training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1.47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Task/Mission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23.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Procedure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4.56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2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Manuals 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8.60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00"/>
                </a:solidFill>
                <a:latin typeface="Arial"/>
              </a:rPr>
              <a:t>HFA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ccident Classification Tax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Track Mishap Trends (over time, interna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pplicability (Mil, Airlines, GenAviat, Ma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valuate Effectiveness of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alid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ter Rater Reli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Acceptable Levels of Expert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Other Mishap Classif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Direct manpower and funds        -oth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777384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Glider-Competitions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Analysis of </a:t>
            </a:r>
            <a:r>
              <a:rPr b="0" lang="de-DE" sz="4800" spc="-1" strike="noStrike" u="sng">
                <a:solidFill>
                  <a:srgbClr val="ffff00"/>
                </a:solidFill>
                <a:uFillTx/>
                <a:latin typeface="Arial"/>
              </a:rPr>
              <a:t>Accident Data</a:t>
            </a:r>
            <a:r>
              <a:rPr b="0" lang="de-DE" sz="4800" spc="-1" strike="noStrike">
                <a:solidFill>
                  <a:srgbClr val="ffff00"/>
                </a:solidFill>
                <a:latin typeface="Arial"/>
              </a:rPr>
              <a:t>  1998 - 2007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76000" y="5333760"/>
            <a:ext cx="637236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Jürgen K. Knüpp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Subjec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30880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Requiremen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for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mergency Servi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t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ccident Data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FU 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(Ge. Inst. f. accident invstigation)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tatistic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: Accidents 1998 -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Analysis of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Distributio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„Onbase“ / „Offbase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umm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5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00"/>
                </a:solidFill>
                <a:latin typeface="Arial"/>
              </a:rPr>
              <a:t>Collected Data of BFU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295280"/>
            <a:ext cx="8308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www.bfu-web.de </a:t>
            </a:r>
            <a:r>
              <a:rPr b="1" lang="de-DE" sz="36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de-DE" sz="32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de-DE" sz="3200" spc="-1" strike="noStrike">
                <a:solidFill>
                  <a:srgbClr val="ffff00"/>
                </a:solidFill>
                <a:latin typeface="Arial"/>
              </a:rPr>
              <a:t>sorted re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nnual Reports, Glider Competi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2637000"/>
          <a:ext cx="8575560" cy="16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637000"/>
                    <a:ext cx="857556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3059280" y="4292640"/>
            <a:ext cx="2736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ju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Ld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n-B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24360" y="4292640"/>
            <a:ext cx="3024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il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ut-La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Off-Bas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4292640"/>
            <a:ext cx="2343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o Inju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/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oll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4"/>
            </a:gs>
            <a:gs pos="50000">
              <a:srgbClr val="0000e4"/>
            </a:gs>
            <a:gs pos="100000">
              <a:srgbClr val="0000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384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ffff00"/>
                </a:solidFill>
                <a:latin typeface="Arial"/>
              </a:rPr>
              <a:t>35 accidents in “Glider“ Competitions in 10 Year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ustis</cp:lastModifiedBy>
  <dcterms:modified xsi:type="dcterms:W3CDTF">2014-04-26T21:26:56Z</dcterms:modified>
  <cp:revision>56</cp:revision>
  <dc:subject/>
  <dc:title>PowerPoint Presentation</dc:title>
</cp:coreProperties>
</file>