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A6782-1265-4F76-B60B-C533210D6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072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8360" y="3885840"/>
            <a:ext cx="82072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8FAEB-4159-445E-9F8F-D33F82BB2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880" y="16286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68360" y="38858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673880" y="38858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C5F67-3E89-4174-9C6D-7B70C3B89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2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243240" y="1628640"/>
            <a:ext cx="2642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18120" y="1628640"/>
            <a:ext cx="2642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68360" y="3885840"/>
            <a:ext cx="2642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243240" y="3885840"/>
            <a:ext cx="2642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6018120" y="3885840"/>
            <a:ext cx="2642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47482-16E8-4699-B3A1-045B6BBF1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8F206A-C1DE-4360-881F-8A574D0A0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07280" cy="43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57C86F-5A1E-4B27-86F1-A570A9248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0728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C3F7CA-4822-48D2-B476-0F443E44D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0500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3880" y="1628640"/>
            <a:ext cx="400500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1D4E19-8C03-4B52-860D-8546A5FDE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A198F7-2499-46CE-AF43-F7DDBA8F8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14F9C3-AF09-414C-A0B1-954AE56EC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3880" y="1628640"/>
            <a:ext cx="400500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8360" y="38858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501E54-8A4A-4E9F-B409-EB13ACD5F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07280" cy="43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DF662-8ECF-4BBE-8864-119F1142F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0500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880" y="16286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3880" y="38858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6FC201-3921-4280-8271-2BE62AEE6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880" y="16286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8360" y="3885840"/>
            <a:ext cx="82072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4F7BA7-ED86-40D4-AA2F-FA6F04603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072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8360" y="3885840"/>
            <a:ext cx="82072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9C0222-B6F8-4C52-9B49-73CCD6858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3880" y="16286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8360" y="38858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3880" y="38858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21BFA6-12FA-45B2-96B2-AD531C50E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2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43240" y="1628640"/>
            <a:ext cx="2642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18120" y="1628640"/>
            <a:ext cx="2642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8360" y="3885840"/>
            <a:ext cx="2642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43240" y="3885840"/>
            <a:ext cx="2642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18120" y="3885840"/>
            <a:ext cx="2642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167017-D516-4CE9-A26A-2767AE149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0728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41D37-6C24-468D-A40C-27761ED5F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0500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3880" y="1628640"/>
            <a:ext cx="400500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67FA5-81E9-4A80-9B78-C3F166F23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B9EA8-8F2C-47D5-878A-74CB9F5A2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7410A-BEF6-418E-8923-B3F7E5C4A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3880" y="1628640"/>
            <a:ext cx="400500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68360" y="38858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08C73-F725-4275-A5C0-18654A41F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0500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3880" y="16286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673880" y="38858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430D8-804D-4924-88BD-58E812430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3880" y="16286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68360" y="3885840"/>
            <a:ext cx="82072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FFA89-4661-411D-9EBC-0BD26B58A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68360" y="1628640"/>
            <a:ext cx="820728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EC555-0E86-4BD4-A13E-397EBCF89FD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" name="" descr=""/>
          <p:cNvPicPr/>
          <p:nvPr/>
        </p:nvPicPr>
        <p:blipFill>
          <a:blip r:embed="rId2"/>
          <a:srcRect l="0" t="9114" r="13524" b="8701"/>
          <a:stretch/>
        </p:blipFill>
        <p:spPr>
          <a:xfrm>
            <a:off x="7956720" y="6068880"/>
            <a:ext cx="1091880" cy="668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3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5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7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9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4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6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86E32-174E-49A7-ACD6-3328E4BE001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964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3e3ff"/>
                </a:solidFill>
                <a:latin typeface="Arial"/>
              </a:rPr>
              <a:t>Microlight Activity Analysi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403280" y="3357720"/>
            <a:ext cx="64008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IMA Meeting November 200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3e3ff"/>
                </a:solidFill>
                <a:latin typeface="Arial"/>
              </a:rPr>
              <a:t>Contributing Countri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342800" y="1412640"/>
            <a:ext cx="315108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ustr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elgiu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razi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zech Republ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inl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r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German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Guatemal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unga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rel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18200" y="1412640"/>
            <a:ext cx="345744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ta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Jap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eny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rwa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ortug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loven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outh Afri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pa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wed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witzerl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U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87200" y="144360"/>
            <a:ext cx="8799480" cy="650880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0" y="7024680"/>
            <a:ext cx="828720" cy="28728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965160" y="7035840"/>
            <a:ext cx="828720" cy="28728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7440480"/>
            <a:ext cx="828720" cy="92232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941400" y="7442280"/>
            <a:ext cx="828720" cy="28728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1.8737E-007 C 0.08247 -0.31853 0.16493 -0.63636 0.31528 -0.74786 C 0.46563 -0.85935 0.80521 -0.68286 0.90243 -0.66944 E">
                                      <p:cBhvr>
                                        <p:cTn id="6" dur="2000" fill="hold"/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1.13347E-006 C 0.02222 -0.38029 0.04445 -0.76058 0.17656 -0.84016 C 0.30868 -0.91973 0.69028 -0.53828 0.79306 -0.47791 E">
                                      <p:cBhvr>
                                        <p:cTn id="15" dur="2000" fill="hold"/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3.7474E-007 C 0.14445 -0.3708 0.28889 -0.74138 0.43854 -0.82304 C 0.58854 -0.90469 0.74358 -0.69766 0.89879 -0.49063 E">
                                      <p:cBhvr>
                                        <p:cTn id="24" dur="2000" fill="hold"/>
                                        <p:tgtEl>
                                          <p:spTgt spid="1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1.32084E-006 C 0.11372 -0.33588 0.22761 -0.67152 0.36112 -0.69743 C 0.49463 -0.72334 0.72779 -0.24543 0.80122 -0.15499 E">
                                      <p:cBhvr>
                                        <p:cTn id="33" dur="20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-4680" y="-85680"/>
            <a:ext cx="9153360" cy="6364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134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197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964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-468360" y="0"/>
            <a:ext cx="9144000" cy="5981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4T06:50:18Z</dcterms:created>
  <dc:creator>Keith Negal</dc:creator>
  <dc:description/>
  <dc:language>en-US</dc:language>
  <cp:lastModifiedBy>Keith Negal</cp:lastModifiedBy>
  <dcterms:modified xsi:type="dcterms:W3CDTF">2005-11-17T14:52:57Z</dcterms:modified>
  <cp:revision>6</cp:revision>
  <dc:subject/>
  <dc:title>Slide 1</dc:title>
</cp:coreProperties>
</file>