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2.jpeg" ContentType="image/jpeg"/>
  <Override PartName="/ppt/media/image14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7BAA-3D26-4265-9348-DD6C31EA2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8666-274E-4902-A9EA-DD559B67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2114-F2E7-491F-B7CC-CBDB50A53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2429-F188-4208-92DD-85D2509B2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A621-D915-47C5-A729-3CEA1D041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B7E0-1B58-4BD4-9364-803AB998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4F46-592D-4297-99ED-F418193D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3BF2-D7DF-4199-8064-0BAFDAC6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C113-08C6-4D55-81E2-35669D0E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C5B0-986F-4B2C-9B1C-8F7E02DC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9514-2954-4963-84B7-EA2FD353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5142-9AF6-4ED5-91E6-C1335F5B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F265-5FF8-49D6-9185-8D1EF9D1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E2E8-4BF5-411F-85D0-24E0141F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9280-F1B7-4BAD-A347-6200F8CF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15182-FB89-43C5-AEF4-01DB9D9BB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EBA7-0885-4DB3-8420-6FCEB6EB2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BFBA-7BE5-4022-A6D7-ED6D7E59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F138-BB20-4061-8B51-6598AB31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7339-155D-4910-97ED-C75E38B7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5CCE-714B-492E-AC5F-ADAAD754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153E-4B6A-4582-9231-EF02D32F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82E4-7856-41F7-B11B-F4A55CD9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118C-2A18-414E-A163-D16B6D25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937A-1161-4B3C-9E51-EAEFADFBF3E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B0BC-72CD-48DE-84F6-9DB67E53FF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CB80-0B3D-4AA8-9FA1-D8178AEEBF68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AB87-90A7-4639-8DA9-518E2857BD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veskisilla.ee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8920" y="227628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cbcbcb"/>
                </a:solidFill>
                <a:latin typeface="Tahoma"/>
              </a:rPr>
              <a:t>European Paramotor Championships 2013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47640" y="549360"/>
            <a:ext cx="2340000" cy="1439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959280" y="69048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Estonia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Aerospor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Feder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44120" y="5191200"/>
            <a:ext cx="7227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t-EE" sz="2400" spc="-1" strike="noStrike">
                <a:solidFill>
                  <a:srgbClr val="000000"/>
                </a:solidFill>
                <a:latin typeface="Tahoma"/>
              </a:rPr>
              <a:t>ORGANIZ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Estonian Paragliding &amp; Paramotoring Assoc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84720" y="37519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3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Ma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2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June 20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95640" y="4399560"/>
            <a:ext cx="38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Location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üri, Esto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443640" y="512640"/>
            <a:ext cx="2016000" cy="1509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11280" y="3860640"/>
            <a:ext cx="2340000" cy="104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624D-445E-4308-869F-F58F7E01BFD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CDEFA43-2312-496E-81EF-8682D6C494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Weathe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,6 m/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rature 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 – 15 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d of May daytime high temperature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n mid Estoni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ten reach 25 C and over. Mean time night temperatures can be quite calm, even below 10 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ch difference may crea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rong thermals in midday, resulting usually in a non-flyable weather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pproximatel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rom 12.00 to 16.00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time of the year Estonia is known by white nights, which means excellent flying conditions early in the morning (from 4.00) and late in the evening (until 22.00)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th utilizing the best flying weather available, it will be possible to provi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quite strange but ver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ble program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stead of exhaustive parawaiting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t midday it is possible to revert day and night - to sleep mainly at daytime and to be effective in competition flying at evenings and early morning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EB58-4231-4FAF-8C8B-4B0E6FCF3CD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14CBC1-F09B-4D19-9FF5-1F3FEBD15B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Dat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rival, registration, inspection &amp; train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3. – 24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irst competition briefing, opening ceremony &amp; welcome dinner: 25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ompetition flying days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6. May –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Party: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ceremony &amp; Prizegiv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. Septemb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D3E3-E913-4088-87E8-AB2A4AFB0CE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96B2B2-1742-43DB-A248-F6604D5E7B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040360" y="4549680"/>
            <a:ext cx="4103640" cy="230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1CA1-E355-4623-9A16-5537F3D178B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4248BF-7BFA-4620-A342-ACE1E07F65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Official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 D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Ott Maaten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natas Samulenas L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uty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esa Subiceva L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oring Manag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lari Ilves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ef Marshall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are Vanari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ternational Jury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rewards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onitor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ain personnel is selected from the most competent of Baltic States. They all have significant paramotoring background as pilots and/or as organizers and teamleaders at many local and international paramotor competitions in recent yea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4CDA-2A8E-4AFB-82BF-DC769C16D8D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3C071D-1C3C-4546-BAD1-F829ECB6B9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Class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motors: PF1 &amp; PF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trikes: PL1 &amp; PL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0ABD-DF7D-4DA8-9BA7-15864952B4A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2216FA-7CE6-469C-A2E8-036814B6CB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2528-1C8C-4A54-A2B5-645EFAA4BEE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2EDA6A-F2B3-408D-B7DB-65753C6990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Med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PC Media Service will be established to deal with all media services and public rela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pecial internet site will be set up for online news, information, pictures and videos uploading and shar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Estonian most popular commercial TV channel “Kanal 2”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ll b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whole event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th specia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daily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al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V new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ge will b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rrang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sport’s news of another commercial TV channel TV3 and in State Channel ETV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 radio station “Kuma” will be p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t daily with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liv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s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BNS (Baltic News Service) agency will be provided with news by EPC Media Service dail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Video production will be organized for TV Special &amp; DVD relea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5F8A-5341-465F-B2CA-CBD06E5139D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9272DD-F893-4A07-AE07-A5DC931D35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pilo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co-pilot (navigator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 for each teamleader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100.- € for assistant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 fee for family and visitors, exept for party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 will be lowered by 50.- if payd before 1. March 2013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etition management (setting, organizing, controlling and evaluating the tasks,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splaying the results, briefings, prizegiving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media coverag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tc.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l competition materials (maps, task description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competition numbers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tc.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ining day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arrangement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(training task management etc.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ee use of the airfield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Free entrance to all official events, including opening and closing ceremonies with corresponding parties and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atherproof overnight storage for aircraft and equipment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vironmental fee (toilets and waste management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2780-DC6E-4719-B5A8-7FF65253611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C62976-5023-4992-962F-B42B6C383C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0" y="3465360"/>
            <a:ext cx="4572000" cy="3392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340200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35640" cy="3465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4535640" y="0"/>
            <a:ext cx="460836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2045-039A-4747-9EA8-CE4227269A19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8B3BB6-E546-4E86-BECE-5FDEFF3CD2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7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304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for Accommodation &amp; Catering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/person in double or triple hotel room with TV,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00.- €/person in 4 bed motel room with common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/person for camping (near the hotel) with shower &amp; toilet fascilities nearb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&amp; Catering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from 23.05. to 2.06. with late checkout option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TV, Showers and toilets according to accommodation categor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reless internet co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verage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Use of hotel and motel briefingrooms, meetingrooms, task planning spaces &amp; partyhall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Reasonable use of saunas every evening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Breakfast, lunch and dinner every day, starting from the dinner on 23.05 evening until the breakfast on 2.06. morning, excluding party dinners after the opening and closing ceremonies.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deal is valid also for teamleaders, assistants and family members upon availabilit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52D3-C3B7-4E80-800D-89C96C003AD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4241AF-F24F-4359-B12B-E1CADAF283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928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Index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Venu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D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Offici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Clas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Med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Fe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00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5867280" cy="49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3DE7-43FB-42D9-BED0-D2E4BFCF509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6BDF1F-1AC9-4401-AC6A-5CF709785D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464160" y="3429000"/>
            <a:ext cx="2679840" cy="3429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3446640"/>
            <a:ext cx="6443640" cy="3411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71636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16D6-7D73-4D55-BD71-7F8D1B64B71E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89297F-FDD3-48FA-BABB-6F646D2741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476280"/>
            <a:ext cx="3200400" cy="3049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74320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info@eppa.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84360" y="411336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4ADD-96AF-4C00-B2F2-FB99DE25043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1FAD58-1AD6-468A-86F4-72FD182D01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AD09-2BBD-47CC-AD04-3548D841B7CE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37C924-51AC-4762-B7C0-D01A266859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re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h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 of Estoni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 near small town Türi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tive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ope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scapes with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fe landing option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rved exclusively for EPC 2013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 other flying activities in the are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um of no-flying zone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light restriction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air traffic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ea with 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 population densit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of a small town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Tür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frastructure nearb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(2 k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C28C-F2AE-46F9-8787-8942F3CC54D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AE3836-1F9E-4953-BAAC-551ECA1659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1600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5400" spc="-1" strike="noStrike">
                <a:solidFill>
                  <a:srgbClr val="000000"/>
                </a:solidFill>
                <a:latin typeface="Tahoma"/>
              </a:rPr>
              <a:t>Venue / Area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3B72-0AB9-4440-A51D-7351925785D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4A8DF9-7144-4332-8DE9-0A256E32C1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297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Airfield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24000" y="8730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oordinates: 58°49`06.00"N  25°28`35.00"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640" y="4113360"/>
            <a:ext cx="799308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Elevation: 62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Main field size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0x400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Quality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sh clover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ield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 with no paved airstri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Distance to accommodation: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Nearest town: Türi,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9296-6F73-4B1D-AE8A-131A9155FD05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6C5C16-BCE0-483C-9DD7-B2176888C3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ccommod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tel “Veskisilla” (meaning “Millbridge”),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l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restored w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mepage: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t-EE" sz="18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www.veskisilla.ee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Location: Türi-Alliku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i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, 1 km from Türi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ide,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100 km 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tu, 10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llin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erved exclusively for EPC 2013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6 places in h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 places in m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limited places for camping with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noug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ers, saunas and toilet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ge catering and party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ll for over 200 people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 sauna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lot of rooms and spaces for briefings and meeting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reless interne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shop suppor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lternative activities for bad weather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5630-64FE-4449-8DA6-AED79C7A5AD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58747C-89C7-4601-93C9-F7FE35EE0F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247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92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CE3A-EEC4-46E8-9AA0-33BEEC34BA53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7A1397-AE59-47F8-8BFE-575CD3F3E4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76360" y="404640"/>
            <a:ext cx="7920000" cy="5940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4360" y="5157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5F7C-9D0C-44D9-8818-88CBCE541C2A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EF7FFB-5E6C-47DA-B905-806D10646F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rell</cp:lastModifiedBy>
  <dcterms:modified xsi:type="dcterms:W3CDTF">2011-11-10T15:48:0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