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B92-411E-4834-83DB-A41A5A00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FB46-BBEC-4F43-A6ED-633508DA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89C-A46C-4775-BD30-DB2F5C16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432-311E-4509-968E-C80B0328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73F-7542-446D-85BF-348E93E6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F1A-1075-42D3-B06D-C4EBFDCE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1C02-6532-4326-ADF8-74DBF240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997-8932-4D79-B82B-AAD127FB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BCF-D8C4-4C09-9126-091DD788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177-4B49-4EA6-9A33-485A7A4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0E4-394A-437D-B757-1FDE3D4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A0A-7A0F-458E-AAA0-97567FFC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221A-C9B6-4D8A-B920-01E7A9D0C63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7800" y="330120"/>
            <a:ext cx="6191280" cy="61945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8480" y="2349360"/>
            <a:ext cx="56818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br>
              <a:rPr sz="2500"/>
            </a:br>
            <a:br>
              <a:rPr sz="2500"/>
            </a:b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See you in September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500" spc="-1" strike="noStrike">
                <a:solidFill>
                  <a:srgbClr val="ffffff"/>
                </a:solidFill>
                <a:latin typeface="Arial"/>
              </a:rPr>
              <a:t>over Geneva</a:t>
            </a: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” !</a:t>
            </a:r>
            <a:br>
              <a:rPr sz="2500"/>
            </a:br>
            <a:br>
              <a:rPr sz="30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80000" cy="6884640"/>
            <a:chOff x="0" y="0"/>
            <a:chExt cx="9180000" cy="688464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9180000" cy="688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1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303200" y="112680"/>
              <a:ext cx="6527160" cy="672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9158400" cy="6872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836640"/>
            <a:ext cx="5830920" cy="5834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563920"/>
            <a:ext cx="568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From Friday September 4th 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Saturday September 12th, 2009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54120" y="3789360"/>
            <a:ext cx="5681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Centre Sportif de Vessy – City of Gene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4508640"/>
            <a:ext cx="568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Hôtel Ramada Encore La Prail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1520" y="6329520"/>
            <a:ext cx="22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28480" y="260280"/>
          <a:ext cx="829152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260280"/>
                    <a:ext cx="829152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2411280" y="443700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57336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4005360"/>
            <a:ext cx="1152360" cy="6476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92720" y="2852640"/>
            <a:ext cx="1006200" cy="7923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35772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Hôtel Ramada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La Pra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28000" y="2205000"/>
            <a:ext cx="1008000" cy="6415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Centre sportif</a:t>
            </a:r>
            <a:br>
              <a:rPr sz="1200"/>
            </a:b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de Ves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189000"/>
            <a:ext cx="9074160" cy="647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76360" y="836640"/>
            <a:ext cx="5830920" cy="5832360"/>
            <a:chOff x="1476360" y="836640"/>
            <a:chExt cx="5830920" cy="5832360"/>
          </a:xfrm>
        </p:grpSpPr>
        <p:sp>
          <p:nvSpPr>
            <p:cNvPr id="73" name=""/>
            <p:cNvSpPr/>
            <p:nvPr/>
          </p:nvSpPr>
          <p:spPr>
            <a:xfrm>
              <a:off x="1476360" y="836640"/>
              <a:ext cx="5830920" cy="58323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6200" y="2421720"/>
              <a:ext cx="5681880" cy="27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995480" y="29019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City Welcome Party    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      7:30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0" y="1557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ff0000"/>
                </a:solidFill>
                <a:latin typeface="Arial"/>
              </a:rPr>
              <a:t>Event Master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13372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ilot registration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9am-4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099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General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4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46200" y="386064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Inflation balloons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pm-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40080" y="3490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Preflight Briefing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49440" y="42433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Launch Window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5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0pm on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7080" y="452916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(until Wednesday 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9.09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200" spc="-1" strike="noStrike">
                <a:solidFill>
                  <a:srgbClr val="0000ff"/>
                </a:solidFill>
                <a:latin typeface="Arial"/>
              </a:rPr>
              <a:t>11:59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3600" y="501660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Awards Banquet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12.09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CH" sz="1800" spc="-1" strike="noStrike">
                <a:solidFill>
                  <a:srgbClr val="0000ff"/>
                </a:solidFill>
                <a:latin typeface="Arial"/>
              </a:rPr>
              <a:t> 6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381720"/>
            <a:ext cx="236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76360" y="779400"/>
            <a:ext cx="5830920" cy="5833800"/>
            <a:chOff x="1476360" y="779400"/>
            <a:chExt cx="5830920" cy="5833800"/>
          </a:xfrm>
        </p:grpSpPr>
        <p:sp>
          <p:nvSpPr>
            <p:cNvPr id="92" name=""/>
            <p:cNvSpPr/>
            <p:nvPr/>
          </p:nvSpPr>
          <p:spPr>
            <a:xfrm>
              <a:off x="1476360" y="779400"/>
              <a:ext cx="5830920" cy="583380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46200" y="2365200"/>
              <a:ext cx="568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Registred NAC’s acceptanc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USA               3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rance           2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Finland           1</a:t>
              </a:r>
              <a:br>
                <a:rPr sz="2500"/>
              </a:b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Belgium          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500" spc="-1" strike="noStrike">
                  <a:solidFill>
                    <a:srgbClr val="ffffff"/>
                  </a:solidFill>
                  <a:latin typeface="Arial"/>
                </a:rPr>
                <a:t>Switzerland    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Great-Britain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Austria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fr-CH" sz="2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24000" y="6338880"/>
            <a:ext cx="210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02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7640" y="2781360"/>
              <a:ext cx="5681880" cy="17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Deadline for Pilots registration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ffff"/>
                  </a:solidFill>
                  <a:latin typeface="Arial"/>
                </a:rPr>
                <a:t>Thursday April 30th, 2009</a:t>
              </a:r>
              <a:r>
                <a:rPr b="1" lang="fr-FR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br>
                <a:rPr sz="3000"/>
              </a:br>
              <a:br>
                <a:rPr sz="3000"/>
              </a:b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Including payment of the entry f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343560"/>
            <a:ext cx="21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77800" y="835200"/>
            <a:ext cx="5830920" cy="58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708280"/>
            <a:ext cx="5681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80"/>
                </a:solidFill>
                <a:latin typeface="Arial"/>
              </a:rPr>
              <a:t>Competition Organisation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Mr. Markus Hagg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  </a:t>
            </a:r>
            <a:r>
              <a:rPr b="0" lang="fr-FR" sz="3600" spc="-1" strike="noStrike">
                <a:solidFill>
                  <a:srgbClr val="000080"/>
                </a:solidFill>
                <a:latin typeface="Arial"/>
              </a:rPr>
              <a:t>Event Director</a:t>
            </a:r>
            <a:br>
              <a:rPr sz="3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76200" y="6269040"/>
            <a:ext cx="203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4648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4400" y="-14400"/>
            <a:ext cx="9158400" cy="125748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Annual CIA Meeting - 14.03.09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H" sz="1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0200" y="6199200"/>
            <a:ext cx="2109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ontrat de pres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2009-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115920"/>
            <a:ext cx="136836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ffffff"/>
                </a:solidFill>
                <a:latin typeface="Arial"/>
              </a:rPr>
              <a:t>Genève Tourisme</a:t>
            </a:r>
            <a:br>
              <a:rPr sz="1000"/>
            </a:br>
            <a:r>
              <a:rPr b="1" lang="fr-CH" sz="800" spc="-1" strike="noStrike">
                <a:solidFill>
                  <a:srgbClr val="ffffff"/>
                </a:solidFill>
                <a:latin typeface="Arial"/>
              </a:rPr>
              <a:t>&amp; Bureau des congrè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fr-CH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477800" y="835200"/>
            <a:ext cx="5830920" cy="5833800"/>
            <a:chOff x="1477800" y="835200"/>
            <a:chExt cx="5830920" cy="5833800"/>
          </a:xfrm>
        </p:grpSpPr>
        <p:sp>
          <p:nvSpPr>
            <p:cNvPr id="121" name=""/>
            <p:cNvSpPr/>
            <p:nvPr/>
          </p:nvSpPr>
          <p:spPr>
            <a:xfrm>
              <a:off x="1477800" y="835200"/>
              <a:ext cx="5830920" cy="5833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47640" y="1366920"/>
              <a:ext cx="5681880" cy="41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br>
                <a:rPr sz="12000"/>
              </a:br>
              <a:endParaRPr b="0" lang="en-US" sz="30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196120" y="5878440"/>
            <a:ext cx="696960" cy="7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38040" y="6270480"/>
            <a:ext cx="22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ff"/>
                </a:solidFill>
                <a:latin typeface="Arial"/>
              </a:rPr>
              <a:t>www.geneva.gordon-bennett.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3:07Z</dcterms:created>
  <dc:creator>Militza Bodi</dc:creator>
  <dc:description/>
  <dc:language>en-US</dc:language>
  <cp:lastModifiedBy>Alex Nagorski</cp:lastModifiedBy>
  <dcterms:modified xsi:type="dcterms:W3CDTF">2009-04-25T03:20:05Z</dcterms:modified>
  <cp:revision>41</cp:revision>
  <dc:subject/>
  <dc:title>Diapositive 1</dc:title>
</cp:coreProperties>
</file>