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8F58-51A8-4FD2-8E98-2ADF6251EBC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280FD-65D3-4FBE-8896-2A7F44E7E1E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8A57F-9651-4F2B-8B07-A0480C4C8E7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089EC-E595-4A5C-94E8-DD2BE3E2FBB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3F21-0DE0-4B90-8F13-67D4BAFC2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266760"/>
            <a:ext cx="80643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CC7B-94B8-4EE6-BBAE-5A9CD5AD9DD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7C15E-AAAB-467F-8E40-63371B21AD5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AF4A-A1EF-4F9F-B638-EF4BC6BD7BB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2DA4-A804-42B3-B6C2-5DB8126AC1F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A3BA-8C3A-4A0D-AB8D-3448035B205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6DE4-83CF-47B0-9B74-F12BF39C666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3970-40CE-4DE2-BC91-5160C37DDA8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1434600"/>
            <a:ext cx="7366320" cy="1714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Click to edit the title text format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8840" y="3771720"/>
            <a:ext cx="7366320" cy="1307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Click to edit the outline text format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1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con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2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Third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3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our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4" algn="ctr">
              <a:buClr>
                <a:srgbClr val="b0955a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Fif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ix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Seventh Outline Level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873600" y="3301920"/>
            <a:ext cx="14335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308560" y="1866960"/>
            <a:ext cx="33019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78000"/>
          </a:bodyPr>
          <a:p>
            <a:pPr marL="39600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6348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3096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198440" indent="-22788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465920" indent="-22752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533160" y="520200"/>
            <a:ext cx="8064360" cy="582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602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3501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602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10033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13460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689120" indent="-444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2031840" indent="-44424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3160" y="194292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90000"/>
          </a:bodyPr>
          <a:p>
            <a:pPr marL="5940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90288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21140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519920" indent="-3999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1828440" indent="-39960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97740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44240" y="3619080"/>
            <a:ext cx="3771720" cy="234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1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2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3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4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5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  <a:p>
            <a:pPr lvl="6" algn="ctr">
              <a:buClr>
                <a:srgbClr val="595650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i="1" lang="en-US" sz="2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7760" y="3429000"/>
            <a:ext cx="2708280" cy="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67716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1" marL="101016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2" marL="134244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3" marL="1675440" indent="-43092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4" marL="2007720" indent="-430560">
              <a:spcBef>
                <a:spcPts val="18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5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  <a:p>
            <a:pPr lvl="6" marL="2007720" indent="-430560">
              <a:spcBef>
                <a:spcPts val="700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8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5168520"/>
            <a:ext cx="806436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2540160"/>
            <a:ext cx="8064360" cy="1777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56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45AF-2148-4BE8-9692-E054E11B47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2131920" y="1384200"/>
            <a:ext cx="4881600" cy="619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95650"/>
                </a:solidFill>
                <a:latin typeface="Baskerville"/>
              </a:rPr>
              <a:t>Click to edit the title text format</a:t>
            </a:r>
            <a:endParaRPr b="0" lang="en-US" sz="44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3160" y="1866960"/>
            <a:ext cx="3746520" cy="4317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 fontScale="82000"/>
          </a:bodyPr>
          <a:p>
            <a:pPr marL="41652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Click to edit the outline text format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1" marL="69768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con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2" marL="97884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Third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3" marL="126000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our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4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Fif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5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ix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lvl="6" marL="1541160" indent="-239400">
              <a:spcBef>
                <a:spcPts val="3399"/>
              </a:spcBef>
              <a:buClr>
                <a:srgbClr val="595650"/>
              </a:buClr>
              <a:buSzPct val="54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Seventh Outline Level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24092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VICHY 2012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 </a:t>
            </a:r>
            <a:br>
              <a:rPr sz="5400"/>
            </a:br>
            <a:r>
              <a:rPr b="0" lang="en-US" sz="5400" spc="-1" strike="noStrike">
                <a:solidFill>
                  <a:srgbClr val="b0955a"/>
                </a:solidFill>
                <a:latin typeface="Baskerville"/>
              </a:rPr>
              <a:t>XX° FAI Worlds Hot Air Balloon Championship</a:t>
            </a:r>
            <a:endParaRPr b="0" lang="en-US" sz="54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2541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160" y="1929960"/>
            <a:ext cx="8064360" cy="4025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Vichy is situated in the center of France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38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2008 French Nationals was run in this city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  <a:p>
            <a:pPr lvl="1" marL="1041480" indent="-444600">
              <a:spcBef>
                <a:spcPts val="38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650"/>
                </a:solidFill>
                <a:latin typeface="Baskerville"/>
              </a:rPr>
              <a:t>51 pilots – 6 flights – 14 tasks</a:t>
            </a:r>
            <a:endParaRPr b="0" lang="en-US" sz="32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849240" y="968400"/>
            <a:ext cx="7442280" cy="55879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181080" y="135000"/>
            <a:ext cx="8648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Baskerville"/>
              </a:rPr>
              <a:t>2008 French Nationals General Briefing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4632480" y="1285920"/>
            <a:ext cx="3835080" cy="4356000"/>
            <a:chOff x="4632480" y="1285920"/>
            <a:chExt cx="3835080" cy="435600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4657680" y="1311480"/>
              <a:ext cx="3771360" cy="42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4632480" y="1285920"/>
              <a:ext cx="3835080" cy="435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3886200" cy="29084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3480" y="3588840"/>
            <a:ext cx="3886200" cy="2667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briefing room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1 competitor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5 flights</a:t>
            </a:r>
            <a:br>
              <a:rPr sz="3600"/>
            </a:b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14 tasks</a:t>
            </a:r>
            <a:endParaRPr b="0" lang="en-US" sz="36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08" name=""/>
          <p:cNvSpPr/>
          <p:nvPr/>
        </p:nvSpPr>
        <p:spPr>
          <a:xfrm>
            <a:off x="4876920" y="228600"/>
            <a:ext cx="33271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650"/>
                </a:solidFill>
                <a:latin typeface="Baskerville"/>
              </a:rPr>
              <a:t>Main launch field</a:t>
            </a:r>
            <a:endParaRPr b="0" lang="en-US" sz="36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622080"/>
            <a:ext cx="8356680" cy="240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Entry fee including accommodation 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and meals for Pilot + 3 crew members:</a:t>
            </a:r>
            <a:br>
              <a:rPr sz="4000"/>
            </a:br>
            <a:r>
              <a:rPr b="0" lang="en-US" sz="4000" spc="-1" strike="noStrike">
                <a:solidFill>
                  <a:srgbClr val="b0955a"/>
                </a:solidFill>
                <a:latin typeface="Baskerville"/>
              </a:rPr>
              <a:t>between 500 to 1000 €, (B&amp;B or hotel)</a:t>
            </a:r>
            <a:endParaRPr b="0" lang="en-US" sz="4000" spc="-1" strike="noStrike">
              <a:solidFill>
                <a:srgbClr val="b0955a"/>
              </a:solidFill>
              <a:latin typeface="Baskervil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88840" y="3873600"/>
            <a:ext cx="7366320" cy="2209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5a4f4b">
                <a:alpha val="90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b0955a"/>
                </a:solidFill>
                <a:latin typeface="Baskerville"/>
              </a:rPr>
              <a:t>And of course: gas, maps (paper and electronic), pilot’s pack, opening and closing ceremony.</a:t>
            </a:r>
            <a:endParaRPr b="0" i="1" lang="en-US" sz="3600" spc="-1" strike="noStrike">
              <a:solidFill>
                <a:srgbClr val="b0955a"/>
              </a:solidFill>
              <a:latin typeface="Baskervill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1608120" y="800280"/>
            <a:ext cx="6413400" cy="5626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39528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6bb"/>
                </a:solidFill>
                <a:latin typeface="Baskerville"/>
              </a:rPr>
              <a:t>2008 Competition Map – Few PZs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6227640" y="3284640"/>
            <a:ext cx="72072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59565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91240" y="2730600"/>
            <a:ext cx="1447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Vichy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946080" y="831960"/>
            <a:ext cx="7581960" cy="56768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468360" y="10332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1c18"/>
                </a:solidFill>
                <a:latin typeface="Baskerville"/>
              </a:rPr>
              <a:t>Large fields everywher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160" y="266760"/>
            <a:ext cx="8064360" cy="1079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95650"/>
                </a:solidFill>
                <a:latin typeface="Baskerville"/>
              </a:rPr>
              <a:t>Vichy 2012</a:t>
            </a:r>
            <a:endParaRPr b="0" lang="en-US" sz="4800" spc="-1" strike="noStrike">
              <a:solidFill>
                <a:srgbClr val="595650"/>
              </a:solidFill>
              <a:latin typeface="Baskervill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160" y="2196720"/>
            <a:ext cx="8064360" cy="245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90000"/>
              </a:srgbClr>
            </a:outerShdw>
          </a:effectLst>
        </p:spPr>
        <p:txBody>
          <a:bodyPr lIns="38160" rIns="38160" tIns="38160" bIns="38160" anchor="t">
            <a:normAutofit/>
          </a:bodyPr>
          <a:p>
            <a:pPr marL="698400" indent="-444240"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Event Director: Eric Decelliere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103 Team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  <a:p>
            <a:pPr marL="698400" indent="-444240"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650"/>
                </a:solidFill>
                <a:latin typeface="Baskerville"/>
              </a:rPr>
              <a:t>Observers &amp; Loggers</a:t>
            </a:r>
            <a:endParaRPr b="0" lang="en-US" sz="2000" spc="-1" strike="noStrike">
              <a:solidFill>
                <a:srgbClr val="595650"/>
              </a:solidFill>
              <a:latin typeface="Baskerville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946080" y="995400"/>
            <a:ext cx="7645320" cy="5549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446040" y="204840"/>
            <a:ext cx="82422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1d18"/>
                </a:solidFill>
                <a:latin typeface="Baskerville"/>
              </a:rPr>
              <a:t>Landscape</a:t>
            </a:r>
            <a:endParaRPr b="0" lang="en-US" sz="4000" spc="-1" strike="noStrike">
              <a:solidFill>
                <a:srgbClr val="59565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c Decellieres</dc:creator>
  <dc:description/>
  <cp:keywords/>
  <dc:language>en-US</dc:language>
  <cp:lastModifiedBy>Alex Nagorski</cp:lastModifiedBy>
  <dcterms:modified xsi:type="dcterms:W3CDTF">2009-04-25T03:20:56Z</dcterms:modified>
  <cp:revision>1</cp:revision>
  <dc:subject/>
  <dc:title>Diapositive 1</dc:title>
</cp:coreProperties>
</file>