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CE41-08D7-4E3E-868D-8DADD06D967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11AD-4668-4603-99BD-1B38764287D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649-4FEC-4686-BCA8-4B067774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64F-2008-4C93-8DAB-7FB7E934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C97-FE0B-42DD-BEB6-D3E27380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F75-5038-4DA8-A4C8-D3713A58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2785-4DB3-42B0-A453-E18FBF4C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C24-A57E-4671-8070-259A0EAE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9574-5D18-494B-896E-A1139066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38F-A1A0-4B0F-86A7-5C9A561F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D5D-D933-4448-BBC5-C94FD454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571-BB38-4257-BFAF-6A87FD6F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6DB-781F-42E4-A535-DBBD49AC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B0F-F8D8-43DB-BC13-4BE992A3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2C9F-72FE-42F7-B36E-5104EDAB22B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mailto:oktava@latnet.l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5" descr="skupsts-balin.jpg"/>
          <p:cNvPicPr/>
          <p:nvPr/>
        </p:nvPicPr>
        <p:blipFill>
          <a:blip r:embed="rId1"/>
          <a:srcRect l="0" t="0" r="1111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elcome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to the 1st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rld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1" lang="lv-LV" sz="4000" spc="-1" strike="noStrike">
                <a:solidFill>
                  <a:srgbClr val="953735"/>
                </a:solidFill>
                <a:latin typeface="Calibri"/>
              </a:rPr>
              <a:t>Women</a:t>
            </a:r>
            <a:r>
              <a:rPr b="0" lang="lv-LV" sz="4000" spc="-1" strike="noStrike">
                <a:solidFill>
                  <a:srgbClr val="953735"/>
                </a:solidFill>
                <a:latin typeface="Calibri"/>
              </a:rPr>
              <a:t> Hot Air Balloon Champion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914400" y="61722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CURRENCY - LATVIAN 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1 LVL = 1,4 EUR / 1,78 USD / 1,3 GBP / 2,06 CH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CCOMMODATION PER PERSON 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tels 10-7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stels 4-25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guest houses 10-30 LV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FUE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E95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Diesel = 0,63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LPG = 0,35 LVL/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Average MEAL in caffe/bistro 2-5 LVL, in restaurant from 10 LVL 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21.07.2005 05-44-52_Uno.JPG"/>
          <p:cNvPicPr/>
          <p:nvPr/>
        </p:nvPicPr>
        <p:blipFill>
          <a:blip r:embed="rId2"/>
          <a:stretch/>
        </p:blipFill>
        <p:spPr>
          <a:xfrm>
            <a:off x="0" y="0"/>
            <a:ext cx="5724360" cy="380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22.07.2005 20-35-49_Uno.JPG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607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Valmiera 2007 059.jpg"/>
          <p:cNvPicPr/>
          <p:nvPr/>
        </p:nvPicPr>
        <p:blipFill>
          <a:blip r:embed="rId4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Valmiera 2007 079.jpg"/>
          <p:cNvPicPr/>
          <p:nvPr/>
        </p:nvPicPr>
        <p:blipFill>
          <a:blip r:embed="rId5"/>
          <a:stretch/>
        </p:blipFill>
        <p:spPr>
          <a:xfrm>
            <a:off x="0" y="25146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447920"/>
            <a:ext cx="6477120" cy="411480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HAS HOSTED: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LMT CUP 2005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AB.LV CUP 2007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VALMIERA CUP 2008</a:t>
            </a:r>
            <a:br>
              <a:rPr sz="3600"/>
            </a:br>
            <a:r>
              <a:rPr b="1" lang="lv-LV" sz="3600" spc="-1" strike="noStrike">
                <a:solidFill>
                  <a:srgbClr val="0070c0"/>
                </a:solidFill>
                <a:latin typeface="Calibri"/>
              </a:rPr>
              <a:t>3 NATIONAL CHAMPIONSHI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4" descr="skupsts-fons.jpg"/>
          <p:cNvPicPr/>
          <p:nvPr/>
        </p:nvPicPr>
        <p:blipFill>
          <a:blip r:embed="rId1"/>
          <a:srcRect l="0" t="0" r="61074" b="0"/>
          <a:stretch/>
        </p:blipFill>
        <p:spPr>
          <a:xfrm>
            <a:off x="0" y="1865160"/>
            <a:ext cx="4572000" cy="4992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ORGANIZER: LATVIAN BALLOONING FE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04960" y="12189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Hosted CIA meeting in Riga, 200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343400" y="2286000"/>
            <a:ext cx="426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FAI sanctioned events in Latv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7,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- Baltic Cup’ 98 Sigul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572000" y="3886200"/>
            <a:ext cx="3809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CONTAC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Latvijas Gaisa balonu sporta savienība</a:t>
            </a:r>
            <a:br>
              <a:rPr sz="2200"/>
            </a:b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Grostonas iela 6b, Rīga LV-1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hone: +371 611785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E-mail: </a:t>
            </a:r>
            <a:r>
              <a:rPr b="0" lang="lv-LV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ktava@latnet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www.ballooning.l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ontent Placeholder 5" descr="skupsts-bal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c00000"/>
                </a:solidFill>
                <a:latin typeface="Calibri"/>
              </a:rPr>
              <a:t>WE HOPE TO MEET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838080" y="5715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in LATVIA, Valmiera, May 21-29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c00000"/>
                </a:solidFill>
                <a:latin typeface="Calibri"/>
              </a:rPr>
              <a:t>1st World Women Hot Air Balloon Champ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16761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ATVIA</a:t>
            </a:r>
            <a:br>
              <a:rPr sz="2000"/>
            </a:br>
            <a:br>
              <a:rPr sz="2000"/>
            </a:br>
            <a:r>
              <a:rPr b="1" lang="lv-LV" sz="1800" spc="-1" strike="noStrike" u="sng">
                <a:solidFill>
                  <a:srgbClr val="0070c0"/>
                </a:solidFill>
                <a:uFillTx/>
                <a:latin typeface="Calibri"/>
              </a:rPr>
              <a:t>Location</a:t>
            </a: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NE Europe, at the Baltic  Sea, between Estonia and Lithuania, bordering Russia and Belorussi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9" descr="aaa.bmp"/>
          <p:cNvPicPr/>
          <p:nvPr/>
        </p:nvPicPr>
        <p:blipFill>
          <a:blip r:embed="rId2"/>
          <a:stretch/>
        </p:blipFill>
        <p:spPr>
          <a:xfrm>
            <a:off x="2286000" y="457200"/>
            <a:ext cx="6423120" cy="449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609480" y="5105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Population: 2,3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The capital – RIGA, ~800 000 inhabi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Local language: Latvi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Calibri"/>
              </a:rPr>
              <a:t>Most popular foreign languages: English, Russian,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6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70c0"/>
                </a:solidFill>
                <a:latin typeface="Calibri"/>
              </a:rPr>
              <a:t>DIRECT FLIGHTS TO RI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9" descr="aaa.bmp"/>
          <p:cNvPicPr/>
          <p:nvPr/>
        </p:nvPicPr>
        <p:blipFill>
          <a:blip r:embed="rId2"/>
          <a:stretch/>
        </p:blipFill>
        <p:spPr>
          <a:xfrm>
            <a:off x="609480" y="1143000"/>
            <a:ext cx="7696440" cy="51386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5" descr="lvkarte.jpg"/>
          <p:cNvPicPr/>
          <p:nvPr/>
        </p:nvPicPr>
        <p:blipFill>
          <a:blip r:embed="rId2"/>
          <a:stretch/>
        </p:blipFill>
        <p:spPr>
          <a:xfrm>
            <a:off x="838080" y="1752480"/>
            <a:ext cx="7350120" cy="44960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VALMIERA</a:t>
            </a:r>
            <a:br>
              <a:rPr sz="1600"/>
            </a:br>
            <a:r>
              <a:rPr b="1" lang="lv-LV" sz="1600" spc="-1" strike="noStrike">
                <a:solidFill>
                  <a:srgbClr val="0070c0"/>
                </a:solidFill>
                <a:latin typeface="Calibri"/>
              </a:rPr>
              <a:t>www.valmiera.lv</a:t>
            </a:r>
            <a:br>
              <a:rPr sz="1600"/>
            </a:br>
            <a:r>
              <a:rPr b="1" lang="lv-LV" sz="2000" spc="-1" strike="noStrike">
                <a:solidFill>
                  <a:srgbClr val="0070c0"/>
                </a:solidFill>
                <a:latin typeface="Calibri"/>
              </a:rPr>
              <a:t>Location: 150 km NE from Riga                      Population: ~30 0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5" descr="lvkarte.jpg"/>
          <p:cNvPicPr/>
          <p:nvPr/>
        </p:nvPicPr>
        <p:blipFill>
          <a:blip r:embed="rId2"/>
          <a:stretch/>
        </p:blipFill>
        <p:spPr>
          <a:xfrm>
            <a:off x="1600200" y="533520"/>
            <a:ext cx="6400800" cy="60562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63" name="Oval 6"/>
          <p:cNvSpPr/>
          <p:nvPr/>
        </p:nvSpPr>
        <p:spPr>
          <a:xfrm>
            <a:off x="2819520" y="419112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609480" y="2590920"/>
            <a:ext cx="190512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Competition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3048120" y="4343400"/>
            <a:ext cx="228600" cy="2286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>
            <a:off x="2362320" y="3276720"/>
            <a:ext cx="457920" cy="9151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7" name="Rounded Rectangle 15"/>
          <p:cNvSpPr/>
          <p:nvPr/>
        </p:nvSpPr>
        <p:spPr>
          <a:xfrm>
            <a:off x="3505320" y="5105520"/>
            <a:ext cx="2895480" cy="6094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Hotel Naktsmājas - official ballooning 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7"/>
          <p:cNvCxnSpPr>
            <a:endCxn id="65" idx="5"/>
          </p:cNvCxnSpPr>
          <p:nvPr/>
        </p:nvCxnSpPr>
        <p:spPr>
          <a:xfrm flipH="1" flipV="1">
            <a:off x="3242520" y="4537800"/>
            <a:ext cx="338760" cy="56772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9" name="Rounded Rectangle 16"/>
          <p:cNvSpPr/>
          <p:nvPr/>
        </p:nvSpPr>
        <p:spPr>
          <a:xfrm>
            <a:off x="6629400" y="3049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Calibri"/>
              </a:rPr>
              <a:t>2 km N to CLP - aero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Content Placeholder 5" descr="lvkarte.jpg"/>
          <p:cNvPicPr/>
          <p:nvPr/>
        </p:nvPicPr>
        <p:blipFill>
          <a:blip r:embed="rId1"/>
          <a:srcRect l="0" t="16050" r="0" b="186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71" name="Diagram 5" descr=""/>
          <p:cNvPicPr/>
          <p:nvPr/>
        </p:nvPicPr>
        <p:blipFill>
          <a:blip r:embed="rId2"/>
          <a:stretch/>
        </p:blipFill>
        <p:spPr>
          <a:xfrm>
            <a:off x="603360" y="573120"/>
            <a:ext cx="7718400" cy="56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ontent Placeholder 5" descr="22.07.2005 20-32-28_Uno.JPG"/>
          <p:cNvPicPr/>
          <p:nvPr/>
        </p:nvPicPr>
        <p:blipFill>
          <a:blip r:embed="rId1"/>
          <a:srcRect l="0" t="0" r="1133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520" y="2286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50 participants, 2 per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00"/>
                </a:solidFill>
                <a:latin typeface="Calibri"/>
              </a:rPr>
              <a:t>Entry fee 300,-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638680" y="838080"/>
            <a:ext cx="3505320" cy="3751560"/>
          </a:xfrm>
          <a:prstGeom prst="rect">
            <a:avLst/>
          </a:prstGeom>
          <a:solidFill>
            <a:srgbClr val="f4f1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RGANIZERS PROVIDE</a:t>
            </a:r>
            <a:r>
              <a:rPr b="0" lang="lv-LV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L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2 sets of printed maps + electronic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morning cof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4 tickets per participant to soci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Opening and Award cerem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Calibri"/>
              </a:rPr>
              <a:t>pilot gif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5" descr="lvkarte.jpg"/>
          <p:cNvPicPr/>
          <p:nvPr/>
        </p:nvPicPr>
        <p:blipFill>
          <a:blip r:embed="rId2"/>
          <a:stretch/>
        </p:blipFill>
        <p:spPr>
          <a:xfrm>
            <a:off x="533520" y="533520"/>
            <a:ext cx="4275000" cy="32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0" y="38088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COMPETITION CENTRE  - VIDZEMES OLIMPIC CENTRE: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multifunctional hall with full office service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large parking sp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naktsmaja.jpg"/>
          <p:cNvPicPr/>
          <p:nvPr/>
        </p:nvPicPr>
        <p:blipFill>
          <a:blip r:embed="rId3"/>
          <a:stretch/>
        </p:blipFill>
        <p:spPr>
          <a:xfrm>
            <a:off x="4952880" y="4114800"/>
            <a:ext cx="3487680" cy="2343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79" name="TextBox 8"/>
          <p:cNvSpPr/>
          <p:nvPr/>
        </p:nvSpPr>
        <p:spPr>
          <a:xfrm>
            <a:off x="609480" y="426708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HOTEL NAKTSMĀ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official ballooning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next to the Competi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- 39 rooms, single, double an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ontent Placeholder 4" descr="skupsts-fons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70c0"/>
                </a:solidFill>
                <a:latin typeface="Calibri"/>
              </a:rPr>
              <a:t>ACCOMODATION IN VALMI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ho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14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9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4  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7 youth hostel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1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46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 apartment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In Valmiera distric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4 hotels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68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81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37 guest-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809 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26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5 country house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4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4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6 campings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01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35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youth hostel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7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 (10 extra pla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1 apartment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2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lv-LV" sz="2200" spc="-1" strike="noStrike">
                <a:solidFill>
                  <a:srgbClr val="0070c0"/>
                </a:solidFill>
                <a:latin typeface="Calibri"/>
              </a:rPr>
              <a:t>plac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9:16:59Z</dcterms:created>
  <dc:creator>ok</dc:creator>
  <dc:description/>
  <dc:language>en-US</dc:language>
  <cp:lastModifiedBy>ok</cp:lastModifiedBy>
  <dcterms:modified xsi:type="dcterms:W3CDTF">2009-03-11T17:34:01Z</dcterms:modified>
  <cp:revision>52</cp:revision>
  <dc:subject/>
  <dc:title>Slide 1</dc:title>
</cp:coreProperties>
</file>