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0CAEE-10F0-4C33-85C6-FCF2153704B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FF1E1-95C9-4667-B568-C19C8D0EBD5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1F600-C8F7-47F6-A469-2D0584F6BAB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DA0B8-3A6A-4D1E-90AE-0984D115A19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7A457-A659-4DEC-B114-FDB07D16C0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A5901-0A0A-4EC8-AD00-92C53A1B1C3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95816-F5B3-4350-A99B-2004C670347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4156D-BB7B-41DB-86B5-6FA71068EAA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D0417-D4DB-42D1-BB0F-EB42D6508C3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24840-A27E-4BB6-B674-741E9C4C0F9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D8D25-AC78-4155-A9C9-D4814209442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492D9-59E4-4ACB-B969-45E1E1EC500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8840" y="1434600"/>
            <a:ext cx="7366320" cy="1714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Click to edit the title text format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8840" y="3771720"/>
            <a:ext cx="7366320" cy="1307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3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Click to edit the outline text format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1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con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2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Thir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3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our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4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if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ix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ven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873600" y="3301920"/>
            <a:ext cx="143352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5308560" y="1866960"/>
            <a:ext cx="33019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78000"/>
          </a:bodyPr>
          <a:p>
            <a:pPr marL="39600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6348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3096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19844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533160" y="520200"/>
            <a:ext cx="8064360" cy="582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602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602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90000"/>
          </a:bodyPr>
          <a:p>
            <a:pPr marL="5940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90288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2114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51992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4240" y="97740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44240" y="361908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7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1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2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3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4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977760" y="3429000"/>
            <a:ext cx="270828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7716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1016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244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7544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0772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5168520"/>
            <a:ext cx="806436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2540160"/>
            <a:ext cx="8064360" cy="1777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B817-4915-41C4-8BD3-42E90F6BB3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24092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VICHY 2012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XX° FAI Worlds Hot Air Balloon Championship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160" y="2541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160" y="192996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Vichy is situated in the center of France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38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2008 French Nationals was run in this city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1041480" indent="-444600">
              <a:spcBef>
                <a:spcPts val="38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51 pilots – 6 flights – 14 tasks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849240" y="968400"/>
            <a:ext cx="7442280" cy="55879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81080" y="135000"/>
            <a:ext cx="8648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Baskerville"/>
              </a:rPr>
              <a:t>2008 French Nationals General Briefing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"/>
          <p:cNvGrpSpPr/>
          <p:nvPr/>
        </p:nvGrpSpPr>
        <p:grpSpPr>
          <a:xfrm>
            <a:off x="4632480" y="1285920"/>
            <a:ext cx="3835080" cy="4356000"/>
            <a:chOff x="4632480" y="1285920"/>
            <a:chExt cx="3835080" cy="4356000"/>
          </a:xfrm>
        </p:grpSpPr>
        <p:pic>
          <p:nvPicPr>
            <p:cNvPr id="504" name="" descr=""/>
            <p:cNvPicPr/>
            <p:nvPr/>
          </p:nvPicPr>
          <p:blipFill>
            <a:blip r:embed="rId2"/>
            <a:stretch/>
          </p:blipFill>
          <p:spPr>
            <a:xfrm>
              <a:off x="4657680" y="1311480"/>
              <a:ext cx="3771360" cy="42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3"/>
            <a:stretch/>
          </p:blipFill>
          <p:spPr>
            <a:xfrm>
              <a:off x="4632480" y="1285920"/>
              <a:ext cx="3835080" cy="435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3886200" cy="290844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93480" y="3588840"/>
            <a:ext cx="3886200" cy="2667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briefing room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1 competitor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 flight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14 tasks</a:t>
            </a:r>
            <a:endParaRPr b="0" lang="en-US" sz="3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8" name=""/>
          <p:cNvSpPr/>
          <p:nvPr/>
        </p:nvSpPr>
        <p:spPr>
          <a:xfrm>
            <a:off x="4876920" y="228600"/>
            <a:ext cx="33271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launch field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622080"/>
            <a:ext cx="8356680" cy="2400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Entry fee including accommodation 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and meals for Pilot + 3 crew members: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between 500 to 1000 €, (B&amp;B or hotel)</a:t>
            </a:r>
            <a:endParaRPr b="0" lang="en-US" sz="4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88840" y="3873600"/>
            <a:ext cx="7366320" cy="2209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And of course: gas, maps (paper and electronic), pilot’s pack, opening and closing ceremony.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1608120" y="800280"/>
            <a:ext cx="6413400" cy="56260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39528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6bb"/>
                </a:solidFill>
                <a:latin typeface="Baskerville"/>
              </a:rPr>
              <a:t>2008 Competition Map – Few PZs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6227640" y="3284640"/>
            <a:ext cx="720720" cy="93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591240" y="2730600"/>
            <a:ext cx="14479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Vichy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946080" y="831960"/>
            <a:ext cx="7581960" cy="567684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46836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1c18"/>
                </a:solidFill>
                <a:latin typeface="Baskerville"/>
              </a:rPr>
              <a:t>Large fields everywher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 2012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160" y="2196720"/>
            <a:ext cx="8064360" cy="2451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Event Director: Eric Decelliere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103 Team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Observers &amp; Logger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946080" y="995400"/>
            <a:ext cx="7645320" cy="554976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446040" y="20484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Landscap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c Decellieres</dc:creator>
  <dc:description/>
  <cp:keywords/>
  <dc:language>en-US</dc:language>
  <cp:lastModifiedBy>Alex Nagorski</cp:lastModifiedBy>
  <dcterms:modified xsi:type="dcterms:W3CDTF">2009-04-25T03:20:56Z</dcterms:modified>
  <cp:revision>1</cp:revision>
  <dc:subject/>
  <dc:title>Diapositive 1</dc:title>
</cp:coreProperties>
</file>