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0855-82EA-4920-98CD-87BAC6B76EF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83FA5-3DDB-4098-AA9E-84EF2E8E6A6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BEEB8-ADAD-45B9-A5E0-32415CB6318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D472-1D77-4A20-A66B-4895643D74D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68EBC-D757-4DFD-9B84-CD28C7072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5AFC-1C1A-43F4-804F-9DF6B87725D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0AC2A-D2E4-45AD-A4C3-F8ABA51A7CC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943F0-1FB8-43E2-87C0-519E13AB242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28F44-CF8B-418B-BC86-3FD918650CD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C13A1-6FD7-41A4-A487-3B288097937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D5BC1-7330-429F-BDA5-F7C728F8501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E724B-0C59-454B-8516-2F3290AA7E1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434600"/>
            <a:ext cx="7366320" cy="171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771720"/>
            <a:ext cx="7366320" cy="1307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873600" y="3301920"/>
            <a:ext cx="14335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308560" y="1866960"/>
            <a:ext cx="33019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78000"/>
          </a:bodyPr>
          <a:p>
            <a:pPr marL="39600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6348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3096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19844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533160" y="520200"/>
            <a:ext cx="8064360" cy="582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90000"/>
          </a:bodyPr>
          <a:p>
            <a:pPr marL="5940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90288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2114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51992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97740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44240" y="361908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7760" y="3429000"/>
            <a:ext cx="270828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1016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244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7544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0772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5168520"/>
            <a:ext cx="806436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2540160"/>
            <a:ext cx="8064360" cy="1777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2042-6DBA-42E2-8222-3E7A3D5358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409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VICHY 2012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XX° FAI Worlds Hot Air Balloon Championship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2541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92996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Vichy is situated in the center of Franc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2008 French Nationals was run in this city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041480" indent="-444600"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1 pilots – 6 flights – 14 task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9240" y="968400"/>
            <a:ext cx="7442280" cy="5587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1080" y="135000"/>
            <a:ext cx="864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Baskerville"/>
              </a:rPr>
              <a:t>2008 French Nationals General Briefing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4632480" y="1285920"/>
            <a:ext cx="3835080" cy="4356000"/>
            <a:chOff x="4632480" y="1285920"/>
            <a:chExt cx="3835080" cy="435600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657680" y="1311480"/>
              <a:ext cx="37713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4632480" y="1285920"/>
              <a:ext cx="3835080" cy="43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3480" y="358884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briefing room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1 competitor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 flight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14 tasks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228600"/>
            <a:ext cx="3327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launch field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622080"/>
            <a:ext cx="8356680" cy="240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Entry fee including accommodation 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and meals for Pilot + 3 crew members: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between 500 to 1000 €, (B&amp;B or hotel)</a:t>
            </a:r>
            <a:endParaRPr b="0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3873600"/>
            <a:ext cx="7366320" cy="2209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And of course: gas, maps (paper and electronic), pilot’s pack, opening and closing ceremony.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1608120" y="800280"/>
            <a:ext cx="6413400" cy="5626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9528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6bb"/>
                </a:solidFill>
                <a:latin typeface="Baskerville"/>
              </a:rPr>
              <a:t>2008 Competition Map – Few PZs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27640" y="3284640"/>
            <a:ext cx="720720" cy="9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91240" y="2730600"/>
            <a:ext cx="1447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Vichy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946080" y="831960"/>
            <a:ext cx="7581960" cy="5676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6836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1c18"/>
                </a:solidFill>
                <a:latin typeface="Baskerville"/>
              </a:rPr>
              <a:t>Large fields everywher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 2012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2196720"/>
            <a:ext cx="8064360" cy="245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Event Director: Eric Decelliere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103 Team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Observers &amp; Logger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46080" y="995400"/>
            <a:ext cx="7645320" cy="5549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6040" y="20484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Landscap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c Decellieres</dc:creator>
  <dc:description/>
  <cp:keywords/>
  <dc:language>en-US</dc:language>
  <cp:lastModifiedBy>Alex Nagorski</cp:lastModifiedBy>
  <dcterms:modified xsi:type="dcterms:W3CDTF">2009-04-25T03:20:56Z</dcterms:modified>
  <cp:revision>1</cp:revision>
  <dc:subject/>
  <dc:title>Diapositive 1</dc:title>
</cp:coreProperties>
</file>