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1AE4-7BAB-473F-8CA6-55A404FFC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881B-8D18-42FC-86D8-CBD21FB7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5858-5943-4728-8DB2-AFC674671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3380-8CFE-4D24-B2D0-A596AC142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5E44-60AC-44F4-B9CB-04F673351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C52E-A027-4E86-A84F-364265A0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2B33-A821-4419-974D-6B8593B0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12BB-D5E1-49FF-B102-8F401D3D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0C2B-4FBA-4EC1-8AFF-BA39ED7C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FCA7-3FB2-410D-95D6-A317FC1C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1812-A040-4E90-8A6E-EBAD399A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C791-5E99-448B-928B-1F899571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BB8D-3A83-453F-8368-8BA7DA1B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D2E1-826E-4755-878E-36A2D4DF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69B1-2297-4593-B2E3-AF145738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7EB47-94EA-4F80-9982-B6A615BA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DC0E-BC79-4BA1-AF58-27A70B0F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76D3-C699-49FF-B57F-1F6ED3BB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0A74-CB18-4A0B-92F6-E3D2DF36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99EC-1F33-46F2-938B-3484FD26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1452-CCB2-4ECA-B38D-DE7C7A4E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2998-1319-403E-9AA3-E3DB5344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5F57-9349-4B4C-B00B-C02620E3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6EB3-CDD3-4FB8-A757-EED6AAB9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E38A-D3C3-4553-BEA0-E5A2DE0DAF6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DDED-A47E-44FF-BE32-5790A2B5DD5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Nomination for </a:t>
            </a:r>
            <a:br>
              <a:rPr sz="3600"/>
            </a:b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Santos Dumont Gold Airship Medal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92360" y="5445000"/>
            <a:ext cx="64008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Leonid TYUKHTYAE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SSI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68360" y="1870200"/>
            <a:ext cx="5183280" cy="3454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2b2b2"/>
                </a:solidFill>
                <a:latin typeface="Arial"/>
              </a:rPr>
              <a:t>Leonid TYUKHTYAEV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24360" y="2492280"/>
            <a:ext cx="4757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e of birth – 21 of June, 195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ballooning from 19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-air &amp; Gas balloons and Airship pil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tional Absolute Altitude Record holder (Class 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Alternate in CIA FA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20840" y="1413000"/>
            <a:ext cx="33289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61672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58053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394600" cy="4125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2519280" cy="1681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763640" y="3571920"/>
            <a:ext cx="2160720" cy="2160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03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istance - 99.136 km (FAI Database ID 1524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24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uration - 5 h 5 min (FAI Database ID 15243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689440" cy="3811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ussian Records Fac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23640" y="1341000"/>
            <a:ext cx="4753080" cy="4321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484360" y="1413000"/>
            <a:ext cx="4175280" cy="4174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55640" y="580536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Records Factory was established b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TYUKHTYAE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2006 to help Russian and former-USSR pilots with national and world recor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OMIN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02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e Federation of Aeronautics of Russia consid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that the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ld recor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lights are an outstanding performance in airships and proudly pres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YUKHTYAEV as a candidate for the Santos Dumont Gold Airship Med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580000" y="1628640"/>
            <a:ext cx="3111480" cy="4464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132000" y="1628640"/>
            <a:ext cx="24228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8:47:31Z</dcterms:created>
  <dc:creator>Stanislaw Fuodoroff</dc:creator>
  <dc:description/>
  <dc:language>en-US</dc:language>
  <cp:lastModifiedBy>Stanislaw Fuodoroff</cp:lastModifiedBy>
  <dcterms:modified xsi:type="dcterms:W3CDTF">2010-03-13T08:47:47Z</dcterms:modified>
  <cp:revision>19</cp:revision>
  <dc:subject/>
  <dc:title>Nomination for  Santos Dumont Gold Airship Medal </dc:title>
</cp:coreProperties>
</file>