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4C66-260E-4225-803C-5C09A57D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1840-B66E-449F-AEE6-FE84BA45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E7D38B-5010-45AE-92C1-8650AE63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CF72-A67C-431E-9BB3-83FA4759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A57623-CE7C-4EDD-B016-6E36D935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007766-E989-426C-A45D-9C085F07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3C516C-1848-4B55-B0BA-00840C83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5C2E30-70D6-4251-8605-F0381DD9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C86FEF-8E30-4269-8327-9FF08FC9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F83740-232D-4225-998B-0FC797C4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01FFB1-E0E9-4828-B0D8-398EAA47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6D841E-C85B-4150-98A4-B4DA68D3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B394B3-7415-4FF4-A2AB-E64C01DE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F11E4E-7E31-466B-879B-BBA156E2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A204-F785-4BF3-A944-F1FFF030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265552-F04A-4227-BC59-32B7B128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ECCE9E-0F06-4F5A-911C-FA7F31EB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2C3B6D-47BA-4102-B45F-279CCA94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FA212E-B1AD-472E-8663-EE728E58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6D7156-348E-4983-9072-8CD89642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A38759-6C78-43CF-99B3-3B336874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26A09E-F135-48EC-BB7A-1616F52C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4A5317-B604-4F72-916C-2D64BBD6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4F8804-8C67-4E5D-A39B-AC85D9E4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6EF078-460B-4035-92F8-477D20B1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8D5B-0F62-4E09-B742-94EDFB4F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9D51E9-3B41-45E2-A936-5FCDA1B7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8D1412-09DA-4C7C-979F-3501C9819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32F6D1-5252-4A58-96A5-EA775AB7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34AD-9BD6-413B-AF08-EB7D27C3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3B3B-01FA-49E2-A998-2725EF39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B56B-5AAE-43B8-8412-4CD2928F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B0C4-76D6-4EFB-90F5-20089C3A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E8CC-EBF3-4214-8D47-4FD4E548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0DB8-B618-4D96-AD73-A9FFABFE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C758-8F48-4AEF-BF8C-403C08CE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D680-40E5-4949-AEE4-FA18A2CA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E4BA-7284-4030-BB37-6E7B44E3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05C3-79DA-41D9-8B64-23598DFF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C722-82AD-4B11-A16E-52A36887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D9BF-1C91-4E22-9B9B-B5515E924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349D-CE8A-4E62-8B2F-E685EB50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916AB9-3959-4C0E-9F4F-F26D9D81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31E453-0F5D-44D8-911C-55802507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33BE64-F0AF-4026-8CDB-DE4BB8A3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A905-E12C-4043-B198-B9611220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EBE4AA-AD70-4017-A777-5365D87D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FDD3F0-2F81-4EA2-91C3-8233A516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1C6395-59E2-4821-B9B2-A0BEC01D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AE8434-7C54-409D-B6ED-16A2EE61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1B9718-2057-4596-988A-C554EDCB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D5271B-97C1-47E3-8D46-7791C2E0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C83EA1-FDA1-4153-BB89-1DA0A5F0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2A02B8-C35B-4E53-A6CC-2D5E7119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19C02B-C281-4B25-AEFB-A67F6F08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A88CEE-F1BD-467C-BA8F-DF443111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4668-7C0F-4125-B757-D349D02D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1DCACE-3DF1-44B2-B222-C723B100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C482D3-08A1-4BB1-BC13-3FF0D49F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D77A8B-6FB2-4893-A0B9-2A1D1D10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C6753E-A476-4AD9-8D67-5E9E0336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0890C6-01F5-4DA4-A6B6-BB7BF3DE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A175CF-8505-407C-9040-B9A1B426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FE3813-BA6C-4624-BC18-DCE58CDF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F46320-143A-467C-924F-D846B5A4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2F1ADC-6934-47B5-B985-4B7FCD39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A04E1A-F6B1-43A7-8767-A6B69C2B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EE28-0CA3-4DF9-AFE7-35FDEF71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B7BF90-B166-4009-AD93-6DBCE831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042558-25C7-4A5F-B603-F23452D8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A3809F-FB34-4184-96D8-2473B7DD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8074FA-EE05-4063-A286-F33A1D9B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96A845-D72C-4363-82CD-3DB839AB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73F89B-25EF-4F1A-B216-5A4A72E3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EEE6EB-9528-4148-B64F-D9819B9E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FD419B-491C-4BF9-B94D-E153F08B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205636-45C7-48A0-AE05-E1A9079B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B354EA-AB2F-49B0-88EE-190ED3A0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2477-4865-4866-A530-06507F0A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412D83-9290-4064-B93C-BD2CAA66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51BDD0-1D42-4C3C-9978-89E363D3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034EDC-7488-4061-8669-381E46D3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4F70-0F33-450F-A4B4-6A756F78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C544-5658-4BE6-BAA2-20C645AC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9028-44FA-4A50-81B1-D03D05F75C72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CB21-3A75-4612-B34D-CCE084C468BE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2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4EE8-1E7D-4856-824E-55AA20C87A5E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7664-0D62-4780-BDA5-5E0B72946998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9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6933-02D4-4455-A2B9-4616A4A8BFFB}" type="datetime3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9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9C34-6665-4663-8429-83CB88429790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9207-0B89-4E89-B312-BA28D3CF900B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F12D-8EDE-4A47-8F5C-535906B3E4B4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786D-57C9-435C-BBE3-C0A80223481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6EFA-58E5-4A9D-A7BE-242C9EE0A2DE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1DCB-9E72-48AB-998F-ABD1B5F9281C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81DD-B1EB-4019-AA4D-0B1333B754CC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2BEF-C1EF-4C9B-9205-33DECBEE07C4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6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7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E4CE-2FD4-4A66-83E9-05F0E2755D34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119E-3794-43C0-95F5-4719C166D39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0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A05A-EB03-4C1E-8EF7-4283121B596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1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71F2-829A-4D9D-8D28-2340EF372D5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1540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mparis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2133720"/>
          <a:ext cx="8534520" cy="4419360"/>
        </p:xfrm>
        <a:graphic>
          <a:graphicData uri="http://schemas.openxmlformats.org/drawingml/2006/table">
            <a:tbl>
              <a:tblPr/>
              <a:tblGrid>
                <a:gridCol w="3054600"/>
                <a:gridCol w="2066760"/>
                <a:gridCol w="3413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New FAI Event Lo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Other retail lo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e the actual scored al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quires lap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few yes, but can’t differentiate between marks or ta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ON and 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raud pro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limited, not tamperpro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curate altitude 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most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asy handling (preflight, during flight and at debrief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depending on competition operation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stant feedback in case of logger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chargeable bat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uge waste, ecologically not reaso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Quality of devices, life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ome bad quality, max 4-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xtensibility (add feat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rol over software functiona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st &amp; Financ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Cost per device: ±530€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Sponsor or financial partner to pay for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Rent to event organiz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Tim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66320" y="2133360"/>
            <a:ext cx="76107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09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Find a sponsor or financial partner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a first series of about 40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tart renting model in some even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be used in continental or world championshi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1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complete set of 15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Why new GPS Logger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Most current loggers are in bad condition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Improve ballooning competitions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Virtual marker drop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Fly On task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top / reduce discussions about accuracy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State of the art GPS technology (SiRF III)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Pilot can view his logged position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Logger interval 1sec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implify logger handling in scoring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Key fea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spla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position, altitude, marker statu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Keypa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enter Fly On goals or drop mark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USB-Port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use logger as navigation device for the pilot’s lapto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D-Car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store the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gitally signe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rack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erial output for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telemetr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(live tracking/scoring)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iRF III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newest GPS technology availabl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8915400" cy="990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llaboration with Flyte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569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 April 2008 we started a collaboration with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We can use their 6020 hardware and write our own custom softwar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ardware is already in use and stabl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device has all necessary compone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raphical display, custom keypad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Low power (30h runtime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Very good barometric altitud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Documentation, calibration warranty and support from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483" name="Picture 11" descr="logger"/>
          <p:cNvPicPr/>
          <p:nvPr/>
        </p:nvPicPr>
        <p:blipFill>
          <a:blip r:embed="rId1"/>
          <a:srcRect l="-41856" t="0" r="-41856" b="0"/>
          <a:stretch/>
        </p:blipFill>
        <p:spPr>
          <a:xfrm>
            <a:off x="5867280" y="2133720"/>
            <a:ext cx="403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9" descr="logger"/>
          <p:cNvPicPr/>
          <p:nvPr/>
        </p:nvPicPr>
        <p:blipFill>
          <a:blip r:embed="rId1"/>
          <a:stretch/>
        </p:blipFill>
        <p:spPr>
          <a:xfrm>
            <a:off x="1600200" y="2178000"/>
            <a:ext cx="2514600" cy="44514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Logger Hardwa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Line 11"/>
          <p:cNvSpPr/>
          <p:nvPr/>
        </p:nvSpPr>
        <p:spPr>
          <a:xfrm flipH="1">
            <a:off x="2819160" y="2590920"/>
            <a:ext cx="2895480" cy="142704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 flipV="1">
            <a:off x="3429000" y="4581360"/>
            <a:ext cx="2286000" cy="371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>
            <a:off x="3505320" y="3733920"/>
            <a:ext cx="2209680" cy="368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 flipH="1" flipV="1">
            <a:off x="2971800" y="5257800"/>
            <a:ext cx="2743200" cy="533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729760" y="47242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5729760" y="2362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60x240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5729040" y="3505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B-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5727240" y="556272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tom key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962160" cy="24526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ustom Keyp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Line 11"/>
          <p:cNvSpPr/>
          <p:nvPr/>
        </p:nvSpPr>
        <p:spPr>
          <a:xfrm flipH="1">
            <a:off x="3733920" y="3657600"/>
            <a:ext cx="1828800" cy="152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3"/>
          <p:cNvSpPr/>
          <p:nvPr/>
        </p:nvSpPr>
        <p:spPr>
          <a:xfrm flipV="1">
            <a:off x="1371600" y="4876560"/>
            <a:ext cx="914400" cy="98100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 flipH="1" flipV="1">
            <a:off x="4266720" y="4724280"/>
            <a:ext cx="762120" cy="9907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782640" y="5867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Fast marker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5418000" y="34290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imple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4736520" y="5562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entury Gothic"/>
              </a:rPr>
              <a:t>asy 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goal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90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Easy handl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Handling is very eas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The following actions are possible: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rop a marker (markers are numbered 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eclare a goal (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List dropped markers and declared goal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Barometric altitud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5181480" y="4952880"/>
            <a:ext cx="3657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The idle screen shows all necessar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Coordinates can also be displayed in UTM and altitude in f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8" descr="Screenshot9"/>
          <p:cNvPicPr/>
          <p:nvPr/>
        </p:nvPicPr>
        <p:blipFill>
          <a:blip r:embed="rId1"/>
          <a:stretch/>
        </p:blipFill>
        <p:spPr>
          <a:xfrm>
            <a:off x="5334120" y="1523880"/>
            <a:ext cx="2253960" cy="33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Marker drop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7" name="Picture 4" descr="Screenshot3"/>
          <p:cNvPicPr/>
          <p:nvPr/>
        </p:nvPicPr>
        <p:blipFill>
          <a:blip r:embed="rId1"/>
          <a:stretch/>
        </p:blipFill>
        <p:spPr>
          <a:xfrm>
            <a:off x="485928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Picture 5" descr="Screenshot1"/>
          <p:cNvPicPr/>
          <p:nvPr/>
        </p:nvPicPr>
        <p:blipFill>
          <a:blip r:embed="rId2"/>
          <a:stretch/>
        </p:blipFill>
        <p:spPr>
          <a:xfrm>
            <a:off x="53964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9" name="Picture 6" descr="Screenshot2"/>
          <p:cNvPicPr/>
          <p:nvPr/>
        </p:nvPicPr>
        <p:blipFill>
          <a:blip r:embed="rId3"/>
          <a:stretch/>
        </p:blipFill>
        <p:spPr>
          <a:xfrm>
            <a:off x="694836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0" name="Picture 7" descr=""/>
          <p:cNvPicPr/>
          <p:nvPr/>
        </p:nvPicPr>
        <p:blipFill>
          <a:blip r:embed="rId4"/>
          <a:srcRect l="0" t="65636" r="46904" b="0"/>
          <a:stretch/>
        </p:blipFill>
        <p:spPr>
          <a:xfrm>
            <a:off x="468360" y="5013360"/>
            <a:ext cx="1224000" cy="4906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8"/>
          <p:cNvSpPr/>
          <p:nvPr/>
        </p:nvSpPr>
        <p:spPr>
          <a:xfrm>
            <a:off x="395280" y="4365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Press „Drop Mark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9" descr="Screenshot6"/>
          <p:cNvPicPr/>
          <p:nvPr/>
        </p:nvPicPr>
        <p:blipFill>
          <a:blip r:embed="rId5"/>
          <a:stretch/>
        </p:blipFill>
        <p:spPr>
          <a:xfrm>
            <a:off x="2700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3" name="Text Box 10"/>
          <p:cNvSpPr/>
          <p:nvPr/>
        </p:nvSpPr>
        <p:spPr>
          <a:xfrm>
            <a:off x="2556000" y="4365720"/>
            <a:ext cx="1871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Select Mark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The user gets a warning if he already dropped the same marker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859280" y="4365720"/>
            <a:ext cx="160344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3. Press ok to drop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You can wait here as long as you want until your are closest 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948360" y="4365720"/>
            <a:ext cx="16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. The idle screen shows the dropped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6804000" y="328464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Goal declar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18" name="Picture 4" descr="Screenshot4"/>
          <p:cNvPicPr/>
          <p:nvPr/>
        </p:nvPicPr>
        <p:blipFill>
          <a:blip r:embed="rId1"/>
          <a:stretch/>
        </p:blipFill>
        <p:spPr>
          <a:xfrm>
            <a:off x="380988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5" descr="Screenshot2"/>
          <p:cNvPicPr/>
          <p:nvPr/>
        </p:nvPicPr>
        <p:blipFill>
          <a:blip r:embed="rId2"/>
          <a:stretch/>
        </p:blipFill>
        <p:spPr>
          <a:xfrm>
            <a:off x="125892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Text Box 6"/>
          <p:cNvSpPr/>
          <p:nvPr/>
        </p:nvSpPr>
        <p:spPr>
          <a:xfrm>
            <a:off x="3693960" y="4437000"/>
            <a:ext cx="2249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Enter goal coordin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The logger accepts either goal number or coordinates. Altitude is opt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116000" y="44370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Select „Declare Goal“ and select the go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273720" y="445608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A list of goals (and markers) can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Screenshot7"/>
          <p:cNvPicPr/>
          <p:nvPr/>
        </p:nvPicPr>
        <p:blipFill>
          <a:blip r:embed="rId3"/>
          <a:stretch/>
        </p:blipFill>
        <p:spPr>
          <a:xfrm>
            <a:off x="6372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AutoShape 13"/>
          <p:cNvSpPr/>
          <p:nvPr/>
        </p:nvSpPr>
        <p:spPr>
          <a:xfrm>
            <a:off x="6516720" y="981000"/>
            <a:ext cx="2232000" cy="1008000"/>
          </a:xfrm>
          <a:prstGeom prst="wedgeRectCallout">
            <a:avLst>
              <a:gd name="adj1" fmla="val -38476"/>
              <a:gd name="adj2" fmla="val 9614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he declaration is stored together with a timestam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55:07Z</dcterms:modified>
  <cp:revision>77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