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829FF-C6F9-4CA7-B004-A36F0FA9C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AA1D0-8723-45E8-955C-FEA5D3A2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C90241-B520-49E9-B1DA-25FE8468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E2FFA-5020-41F0-8523-F19CA086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34DF6-DF65-487D-8C44-51B96179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7B185-8E85-48B1-9C89-FFB5AEBA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1D31F6-F074-4C69-957C-C97AB9FC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584C0-F417-4238-A92C-1D13347E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D70C8C-D579-4D3D-AF5F-6231660E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8F2ED-EE53-48DE-BCDA-24068CEC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343DB-E756-45FE-B822-95EAFAAFD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F7055D-8461-4A9F-AAC9-980FF79BF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535CA8-3824-4C0E-BC27-1FA4E1042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540EF5-9F1B-4E2C-BB8F-4685ADC7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5A30EE-D0C1-42F8-8EE1-D115A6C7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3212AE-B03D-4C83-8AFA-C941FE0C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D86E06-E05E-42B6-A950-9B15C9A7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B01253-8B4D-4B58-B1CF-DF5F253D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369FB5-6D0F-4277-93DA-BA3859E6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5A4E96-FF95-4D0C-A902-8F71AB4F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3AC937-FC02-495C-8A4A-AA808984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F191A6-3369-4321-91B7-0407F21E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C7332D-066E-4B39-A28D-B4A4F83E8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FD63DB-F11C-4730-AB55-260E9DE76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720D8E-5DB7-4BF0-908F-97226D293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9CC67C-6CEA-4C92-BC8C-90F70F15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45DC8D-EEB8-436E-803C-80387585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936E09-9239-4D03-A7D3-E9222976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9695AB-EBAB-49F9-819E-1B6C6544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849169-3484-419C-A9F4-93C0F19C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A55D7E-F2A3-4A70-A76A-52DBBD8B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AAF961-3903-45B9-B530-767991D9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1CDE16-32E8-47F3-99C1-B47A533B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BF62BE-AE55-4453-9DAE-1FE8E80F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B46D6B-C045-41AD-92CD-37DF3DE83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54D136-25AA-4AF1-8B02-D14B7B8B6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F4F886-8965-4955-9510-F65377C14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9ADA62-0D82-4758-9932-4BE4B424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7BE797-20A3-43EE-9FF3-7ECE70A2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92AD8D-AFD4-4032-9F7B-3B1FFAB0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0E401A-B29C-4354-9D15-A8741082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5CCB30-42E6-42B0-A043-166DC786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A457E2-0DFF-4A84-95CA-1D1036B6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1BDAF6-9329-4A8E-9B7E-50C384AC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F841ED-9EE1-4E47-B210-8F9C54F5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1F3D03-DEBA-4D92-827A-FE3A7F8D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3B6F00-454F-4FD4-A4A3-893071E31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9DAC90-C2E6-427C-A019-9FDD24C8C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2732-E3FD-4483-9F9C-D87CCE2B9763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413F-9DDE-40BD-A9D5-BD12BFBA7066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6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4D90-2E27-4180-A5A2-D67151822792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7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8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CFCC-0114-46D8-A2B9-EF26823123BA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9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0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5B1C-4C87-4E81-9BEA-CBE67D527718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7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10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11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12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13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4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F54B-C87B-4AAD-99F6-5FD0E44A14FC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198E-4E9F-451D-B1A9-75C03794BE81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D890-30BB-4523-945C-E144808BEAA4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CA01-4982-425E-AD6B-9FF1475EAF4A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7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317D-F7B1-42F2-AE0D-8698867B2865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8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54DD-6E34-4243-928D-D8A95A87AEDA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09EC-5ECB-44F9-8D81-484216D4A6B4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14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22400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AI/CIA Event Logger Projec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1159200" y="2971800"/>
            <a:ext cx="541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Technology Working Group – Lausanne, March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inancing Op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5219640" y="2565360"/>
            <a:ext cx="3168720" cy="108108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826920" y="2563920"/>
            <a:ext cx="3168720" cy="108108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sponso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471636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xternal inve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6948360" y="4724280"/>
            <a:ext cx="2016360" cy="1224000"/>
          </a:xfrm>
          <a:prstGeom prst="rect">
            <a:avLst/>
          </a:prstGeom>
          <a:solidFill>
            <a:srgbClr val="e076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interna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FAI/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NA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event organiz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241128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pa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17928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spo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AutoShape 9"/>
          <p:cNvCxnSpPr>
            <a:stCxn id="390" idx="2"/>
            <a:endCxn id="394" idx="0"/>
          </p:cNvCxnSpPr>
          <p:nvPr/>
        </p:nvCxnSpPr>
        <p:spPr>
          <a:xfrm rot="5400000">
            <a:off x="1258920" y="3572640"/>
            <a:ext cx="1080000" cy="1224720"/>
          </a:xfrm>
          <a:prstGeom prst="bentConnector3">
            <a:avLst>
              <a:gd name="adj1" fmla="val 498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6" name="AutoShape 10"/>
          <p:cNvCxnSpPr>
            <a:stCxn id="390" idx="2"/>
            <a:endCxn id="393" idx="0"/>
          </p:cNvCxnSpPr>
          <p:nvPr/>
        </p:nvCxnSpPr>
        <p:spPr>
          <a:xfrm flipH="1" rot="16200000">
            <a:off x="2374560" y="3680280"/>
            <a:ext cx="1080000" cy="1008720"/>
          </a:xfrm>
          <a:prstGeom prst="bentConnector3">
            <a:avLst>
              <a:gd name="adj1" fmla="val 498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7" name="AutoShape 11"/>
          <p:cNvCxnSpPr>
            <a:stCxn id="389" idx="2"/>
            <a:endCxn id="391" idx="0"/>
          </p:cNvCxnSpPr>
          <p:nvPr/>
        </p:nvCxnSpPr>
        <p:spPr>
          <a:xfrm rot="5400000">
            <a:off x="5724720" y="3645360"/>
            <a:ext cx="1078200" cy="1080360"/>
          </a:xfrm>
          <a:prstGeom prst="bentConnector3">
            <a:avLst>
              <a:gd name="adj1" fmla="val 4993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8" name="AutoShape 12"/>
          <p:cNvCxnSpPr>
            <a:stCxn id="389" idx="2"/>
            <a:endCxn id="392" idx="0"/>
          </p:cNvCxnSpPr>
          <p:nvPr/>
        </p:nvCxnSpPr>
        <p:spPr>
          <a:xfrm flipH="1" rot="16200000">
            <a:off x="6841440" y="3608640"/>
            <a:ext cx="1078200" cy="1153440"/>
          </a:xfrm>
          <a:prstGeom prst="bentConnector3">
            <a:avLst>
              <a:gd name="adj1" fmla="val 4993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9" name="AutoShape 13"/>
          <p:cNvCxnSpPr>
            <a:stCxn id="388" idx="2"/>
            <a:endCxn id="390" idx="0"/>
          </p:cNvCxnSpPr>
          <p:nvPr/>
        </p:nvCxnSpPr>
        <p:spPr>
          <a:xfrm rot="5400000">
            <a:off x="3170880" y="1278000"/>
            <a:ext cx="526320" cy="2046960"/>
          </a:xfrm>
          <a:prstGeom prst="bentConnector3">
            <a:avLst>
              <a:gd name="adj1" fmla="val 49828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00" name="AutoShape 14"/>
          <p:cNvCxnSpPr>
            <a:stCxn id="388" idx="2"/>
            <a:endCxn id="389" idx="0"/>
          </p:cNvCxnSpPr>
          <p:nvPr/>
        </p:nvCxnSpPr>
        <p:spPr>
          <a:xfrm flipH="1" rot="16200000">
            <a:off x="5366520" y="1128600"/>
            <a:ext cx="527760" cy="2346840"/>
          </a:xfrm>
          <a:prstGeom prst="bentConnector3">
            <a:avLst>
              <a:gd name="adj1" fmla="val 49965"/>
            </a:avLst>
          </a:prstGeom>
          <a:ln w="1908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AutoShape 6"/>
          <p:cNvSpPr/>
          <p:nvPr/>
        </p:nvSpPr>
        <p:spPr>
          <a:xfrm>
            <a:off x="2627280" y="2565360"/>
            <a:ext cx="1008000" cy="422280"/>
          </a:xfrm>
          <a:prstGeom prst="rightArrow">
            <a:avLst>
              <a:gd name="adj1" fmla="val 56463"/>
              <a:gd name="adj2" fmla="val 6691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1"/>
          <p:cNvSpPr/>
          <p:nvPr/>
        </p:nvSpPr>
        <p:spPr>
          <a:xfrm>
            <a:off x="2627280" y="380052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2"/>
          <p:cNvSpPr/>
          <p:nvPr/>
        </p:nvSpPr>
        <p:spPr>
          <a:xfrm rot="10800000">
            <a:off x="2627280" y="406404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3"/>
          <p:cNvSpPr/>
          <p:nvPr/>
        </p:nvSpPr>
        <p:spPr>
          <a:xfrm>
            <a:off x="2627280" y="487980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b170"/>
          </a:solidFill>
          <a:ln w="2556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4"/>
          <p:cNvSpPr/>
          <p:nvPr/>
        </p:nvSpPr>
        <p:spPr>
          <a:xfrm rot="10800000">
            <a:off x="2627280" y="5143320"/>
            <a:ext cx="1008000" cy="301320"/>
          </a:xfrm>
          <a:prstGeom prst="rightArrow">
            <a:avLst>
              <a:gd name="adj1" fmla="val 40093"/>
              <a:gd name="adj2" fmla="val 93776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9"/>
          <p:cNvSpPr/>
          <p:nvPr/>
        </p:nvSpPr>
        <p:spPr>
          <a:xfrm>
            <a:off x="5580000" y="228744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20"/>
          <p:cNvSpPr/>
          <p:nvPr/>
        </p:nvSpPr>
        <p:spPr>
          <a:xfrm rot="10800000">
            <a:off x="5580000" y="255096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24"/>
          <p:cNvGrpSpPr/>
          <p:nvPr/>
        </p:nvGrpSpPr>
        <p:grpSpPr>
          <a:xfrm>
            <a:off x="5580000" y="3530520"/>
            <a:ext cx="1008000" cy="545400"/>
            <a:chOff x="5580000" y="3530520"/>
            <a:chExt cx="1008000" cy="545400"/>
          </a:xfrm>
        </p:grpSpPr>
        <p:sp>
          <p:nvSpPr>
            <p:cNvPr id="409" name="AutoShape 25"/>
            <p:cNvSpPr/>
            <p:nvPr/>
          </p:nvSpPr>
          <p:spPr>
            <a:xfrm>
              <a:off x="5580000" y="353052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26"/>
            <p:cNvSpPr/>
            <p:nvPr/>
          </p:nvSpPr>
          <p:spPr>
            <a:xfrm rot="10800000">
              <a:off x="5580000" y="377316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27"/>
          <p:cNvGrpSpPr/>
          <p:nvPr/>
        </p:nvGrpSpPr>
        <p:grpSpPr>
          <a:xfrm>
            <a:off x="5580000" y="4797360"/>
            <a:ext cx="1008000" cy="545400"/>
            <a:chOff x="5580000" y="4797360"/>
            <a:chExt cx="1008000" cy="545400"/>
          </a:xfrm>
        </p:grpSpPr>
        <p:sp>
          <p:nvSpPr>
            <p:cNvPr id="412" name="AutoShape 28"/>
            <p:cNvSpPr/>
            <p:nvPr/>
          </p:nvSpPr>
          <p:spPr>
            <a:xfrm>
              <a:off x="5580000" y="479736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29"/>
            <p:cNvSpPr/>
            <p:nvPr/>
          </p:nvSpPr>
          <p:spPr>
            <a:xfrm rot="10800000">
              <a:off x="5580000" y="504000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Business Mod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3"/>
          <p:cNvSpPr/>
          <p:nvPr/>
        </p:nvSpPr>
        <p:spPr>
          <a:xfrm rot="16200000">
            <a:off x="3600360" y="3537000"/>
            <a:ext cx="3456000" cy="503280"/>
          </a:xfrm>
          <a:prstGeom prst="rect">
            <a:avLst/>
          </a:prstGeom>
          <a:solidFill>
            <a:srgbClr val="8da4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professional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"/>
          <p:cNvSpPr/>
          <p:nvPr/>
        </p:nvSpPr>
        <p:spPr>
          <a:xfrm rot="16200000">
            <a:off x="2627280" y="3068640"/>
            <a:ext cx="3457440" cy="144144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device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Century Gothic"/>
              </a:rPr>
              <a:t>FAI/CIA ow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6588000" y="2060640"/>
            <a:ext cx="1800360" cy="9651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7"/>
          <p:cNvSpPr/>
          <p:nvPr/>
        </p:nvSpPr>
        <p:spPr>
          <a:xfrm>
            <a:off x="826920" y="5805360"/>
            <a:ext cx="7632720" cy="0"/>
          </a:xfrm>
          <a:prstGeom prst="line">
            <a:avLst/>
          </a:prstGeom>
          <a:ln w="316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8"/>
          <p:cNvSpPr/>
          <p:nvPr/>
        </p:nvSpPr>
        <p:spPr>
          <a:xfrm>
            <a:off x="900000" y="2060640"/>
            <a:ext cx="1727280" cy="13302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FAI/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40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9"/>
          <p:cNvSpPr/>
          <p:nvPr/>
        </p:nvSpPr>
        <p:spPr>
          <a:xfrm>
            <a:off x="900000" y="4791240"/>
            <a:ext cx="1727280" cy="7254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NAC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7"/>
          <p:cNvSpPr/>
          <p:nvPr/>
        </p:nvSpPr>
        <p:spPr>
          <a:xfrm>
            <a:off x="1951200" y="5967360"/>
            <a:ext cx="155232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free 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1"/>
          <p:cNvSpPr/>
          <p:nvPr/>
        </p:nvSpPr>
        <p:spPr>
          <a:xfrm>
            <a:off x="900000" y="3711600"/>
            <a:ext cx="1727280" cy="7254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NA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2"/>
          <p:cNvSpPr/>
          <p:nvPr/>
        </p:nvSpPr>
        <p:spPr>
          <a:xfrm>
            <a:off x="6588000" y="3327480"/>
            <a:ext cx="1800360" cy="9651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3"/>
          <p:cNvSpPr/>
          <p:nvPr/>
        </p:nvSpPr>
        <p:spPr>
          <a:xfrm>
            <a:off x="6588000" y="4549680"/>
            <a:ext cx="1800360" cy="9669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0"/>
          <p:cNvSpPr/>
          <p:nvPr/>
        </p:nvSpPr>
        <p:spPr>
          <a:xfrm>
            <a:off x="7313760" y="5983200"/>
            <a:ext cx="1008000" cy="327240"/>
          </a:xfrm>
          <a:prstGeom prst="rightArrow">
            <a:avLst>
              <a:gd name="adj1" fmla="val 40093"/>
              <a:gd name="adj2" fmla="val 86348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31"/>
          <p:cNvSpPr/>
          <p:nvPr/>
        </p:nvSpPr>
        <p:spPr>
          <a:xfrm rot="10800000">
            <a:off x="7242120" y="6262200"/>
            <a:ext cx="1008000" cy="360360"/>
          </a:xfrm>
          <a:prstGeom prst="rightArrow">
            <a:avLst>
              <a:gd name="adj1" fmla="val 40093"/>
              <a:gd name="adj2" fmla="val 78412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32"/>
          <p:cNvSpPr/>
          <p:nvPr/>
        </p:nvSpPr>
        <p:spPr>
          <a:xfrm>
            <a:off x="5883120" y="5950080"/>
            <a:ext cx="141516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rents 30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4"/>
          <p:cNvSpPr/>
          <p:nvPr/>
        </p:nvSpPr>
        <p:spPr>
          <a:xfrm>
            <a:off x="678960" y="1722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contribu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5"/>
          <p:cNvSpPr/>
          <p:nvPr/>
        </p:nvSpPr>
        <p:spPr>
          <a:xfrm>
            <a:off x="7734600" y="1722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6"/>
          <p:cNvSpPr/>
          <p:nvPr/>
        </p:nvSpPr>
        <p:spPr>
          <a:xfrm>
            <a:off x="977760" y="5975280"/>
            <a:ext cx="1008360" cy="327240"/>
          </a:xfrm>
          <a:prstGeom prst="rightArrow">
            <a:avLst>
              <a:gd name="adj1" fmla="val 40093"/>
              <a:gd name="adj2" fmla="val 86379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37"/>
          <p:cNvSpPr/>
          <p:nvPr/>
        </p:nvSpPr>
        <p:spPr>
          <a:xfrm rot="10800000">
            <a:off x="906480" y="6254280"/>
            <a:ext cx="1008000" cy="360360"/>
          </a:xfrm>
          <a:prstGeom prst="rightArrow">
            <a:avLst>
              <a:gd name="adj1" fmla="val 40093"/>
              <a:gd name="adj2" fmla="val 78412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38"/>
          <p:cNvSpPr/>
          <p:nvPr/>
        </p:nvSpPr>
        <p:spPr>
          <a:xfrm rot="16200000">
            <a:off x="168120" y="61034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leg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ase For a Contributing NA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14560" y="2998440"/>
            <a:ext cx="76104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Example: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NAC 1 runs nationals with 40 competitors every year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wants to contribute with 20 logger to the device poo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grpSp>
        <p:nvGrpSpPr>
          <p:cNvPr id="435" name="Group 7"/>
          <p:cNvGrpSpPr/>
          <p:nvPr/>
        </p:nvGrpSpPr>
        <p:grpSpPr>
          <a:xfrm>
            <a:off x="1211400" y="2276640"/>
            <a:ext cx="7464240" cy="696240"/>
            <a:chOff x="1211400" y="2276640"/>
            <a:chExt cx="7464240" cy="696240"/>
          </a:xfrm>
        </p:grpSpPr>
        <p:sp>
          <p:nvSpPr>
            <p:cNvPr id="436" name="Rectangle 6"/>
            <p:cNvSpPr/>
            <p:nvPr/>
          </p:nvSpPr>
          <p:spPr>
            <a:xfrm>
              <a:off x="1258920" y="2323800"/>
              <a:ext cx="7416720" cy="649080"/>
            </a:xfrm>
            <a:prstGeom prst="rect">
              <a:avLst/>
            </a:prstGeom>
            <a:solidFill>
              <a:srgbClr val="4c4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5"/>
            <p:cNvSpPr/>
            <p:nvPr/>
          </p:nvSpPr>
          <p:spPr>
            <a:xfrm>
              <a:off x="1211400" y="2276640"/>
              <a:ext cx="7416720" cy="648720"/>
            </a:xfrm>
            <a:prstGeom prst="rect">
              <a:avLst/>
            </a:prstGeom>
            <a:solidFill>
              <a:srgbClr val="a2c81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800" spc="-1" strike="noStrike">
                  <a:solidFill>
                    <a:srgbClr val="000000"/>
                  </a:solidFill>
                  <a:latin typeface="Century Gothic"/>
                </a:rPr>
                <a:t>contribute to the device pool and get 20 free rents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38" name=""/>
          <p:cNvGraphicFramePr/>
          <p:nvPr/>
        </p:nvGraphicFramePr>
        <p:xfrm>
          <a:off x="1260360" y="4483080"/>
          <a:ext cx="3456000" cy="1614600"/>
        </p:xfrm>
        <a:graphic>
          <a:graphicData uri="http://schemas.openxmlformats.org/drawingml/2006/table">
            <a:tbl>
              <a:tblPr/>
              <a:tblGrid>
                <a:gridCol w="1366920"/>
                <a:gridCol w="649440"/>
                <a:gridCol w="14396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inves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enef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c81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20 x 20 = 400 free r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20 loggers </a:t>
                      </a:r>
                      <a:br>
                        <a:rPr sz="1200"/>
                      </a:b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x 530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400 free rents </a:t>
                      </a:r>
                      <a:br>
                        <a:rPr sz="1200"/>
                      </a:b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x 30 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5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10‘600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12‘000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</a:tr>
            </a:tbl>
          </a:graphicData>
        </a:graphic>
      </p:graphicFrame>
      <p:sp>
        <p:nvSpPr>
          <p:cNvPr id="439" name="AutoShape 35"/>
          <p:cNvSpPr/>
          <p:nvPr/>
        </p:nvSpPr>
        <p:spPr>
          <a:xfrm>
            <a:off x="2627280" y="5789520"/>
            <a:ext cx="649440" cy="231840"/>
          </a:xfrm>
          <a:prstGeom prst="leftRightArrow">
            <a:avLst>
              <a:gd name="adj1" fmla="val 50000"/>
              <a:gd name="adj2" fmla="val 55765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61"/>
          <p:cNvSpPr/>
          <p:nvPr/>
        </p:nvSpPr>
        <p:spPr>
          <a:xfrm>
            <a:off x="4932360" y="4365720"/>
            <a:ext cx="38163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can use the loggers in the next 10 events for 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can play an active role in the balloon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has priority access to the 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doesn‘t neet to care about 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Professional Hand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353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entury Gothic"/>
              </a:rPr>
              <a:t>responsibilitie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shipping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invoice processing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function check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minor mainenance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entury Gothic"/>
              </a:rPr>
              <a:t>compensation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by case (directly paid by event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on a yearly basis (minor amount paid by device pool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89600" y="2595240"/>
            <a:ext cx="37353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Century Gothic"/>
              </a:rPr>
              <a:t>profile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company with experience in international shipping / customs handling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preferably with link to ballooning community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already two potential volunteer companies available in EU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ase for FAI/C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5" name="Group 20"/>
          <p:cNvGrpSpPr/>
          <p:nvPr/>
        </p:nvGrpSpPr>
        <p:grpSpPr>
          <a:xfrm>
            <a:off x="5219640" y="2457360"/>
            <a:ext cx="3744360" cy="2411640"/>
            <a:chOff x="5219640" y="2457360"/>
            <a:chExt cx="3744360" cy="2411640"/>
          </a:xfrm>
        </p:grpSpPr>
        <p:graphicFrame>
          <p:nvGraphicFramePr>
            <p:cNvPr id="446" name=""/>
            <p:cNvGraphicFramePr/>
            <p:nvPr/>
          </p:nvGraphicFramePr>
          <p:xfrm>
            <a:off x="5219640" y="2560680"/>
            <a:ext cx="3144960" cy="23083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19640" y="2560680"/>
                      <a:ext cx="3144960" cy="230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8" name="Text Box 4"/>
            <p:cNvSpPr/>
            <p:nvPr/>
          </p:nvSpPr>
          <p:spPr>
            <a:xfrm>
              <a:off x="7739280" y="4071960"/>
              <a:ext cx="1224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amort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5"/>
            <p:cNvSpPr/>
            <p:nvPr/>
          </p:nvSpPr>
          <p:spPr>
            <a:xfrm>
              <a:off x="5526360" y="4060800"/>
              <a:ext cx="81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renewa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f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6"/>
            <p:cNvSpPr/>
            <p:nvPr/>
          </p:nvSpPr>
          <p:spPr>
            <a:xfrm>
              <a:off x="6180480" y="2457360"/>
              <a:ext cx="81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hand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7"/>
            <p:cNvSpPr/>
            <p:nvPr/>
          </p:nvSpPr>
          <p:spPr>
            <a:xfrm>
              <a:off x="5410080" y="2778120"/>
              <a:ext cx="10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mainena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6951600" y="2624040"/>
              <a:ext cx="12852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9"/>
            <p:cNvSpPr/>
            <p:nvPr/>
          </p:nvSpPr>
          <p:spPr>
            <a:xfrm>
              <a:off x="6375240" y="3008160"/>
              <a:ext cx="19224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10"/>
          <p:cNvSpPr/>
          <p:nvPr/>
        </p:nvSpPr>
        <p:spPr>
          <a:xfrm>
            <a:off x="1116000" y="2205000"/>
            <a:ext cx="424800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benefits out of renta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healthy and sustainable bussines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high return on inves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money payback time: 3.5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additional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Century Gothic"/>
              </a:rPr>
              <a:t>possible future reven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licence fees through selling of de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opportunities for partnerships with media and spons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ensure quality, fairness and attractivity of ballooning 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7"/>
          <p:cNvSpPr/>
          <p:nvPr/>
        </p:nvSpPr>
        <p:spPr>
          <a:xfrm>
            <a:off x="826920" y="5200560"/>
            <a:ext cx="3168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8"/>
          <p:cNvSpPr/>
          <p:nvPr/>
        </p:nvSpPr>
        <p:spPr>
          <a:xfrm>
            <a:off x="7020000" y="2276640"/>
            <a:ext cx="194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use of income</a:t>
            </a:r>
            <a:br>
              <a:rPr sz="1600"/>
            </a:b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renta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healthy business model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ustainable projec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positive project for our ballooning spor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nsure fairnes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nsure quality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permit additional tasks (FON / PDG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lectronic mark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new posibilities for media partnership / sponsorship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uture additional revenue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8:23:02Z</dcterms:created>
  <dc:creator>Lukas André</dc:creator>
  <dc:description/>
  <dc:language>en-US</dc:language>
  <cp:lastModifiedBy>Claude Weber</cp:lastModifiedBy>
  <dcterms:modified xsi:type="dcterms:W3CDTF">2009-03-13T13:08:27Z</dcterms:modified>
  <cp:revision>79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