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349E-A5D1-4567-AC59-303D1D7EF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6ED5-3885-4375-8092-BB58EEAF4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6A83-B1E7-40AB-A0DB-64A8E309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C0C0-3E2D-4BD3-A4CE-B5BF37514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1279-04E2-4B97-8742-983A98DE4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F4FB-CF37-4DEE-8C67-8EB07609A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E98E-E437-4483-84EB-E7CDA430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F417-2CB3-45DC-98C2-BAD6A17B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3B25-928D-4EC4-BAA6-E86AFF77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93CE-CE4E-441A-9B24-B3A640F3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5F35-CF8A-403F-8D28-D77D7047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11AB-59D6-47BF-BCBA-B426F750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23CD-29F0-4AF6-9986-DE6C50D1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9909-6DB7-4C91-8C7C-0F065AA8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95C2-52CF-4B00-8EAA-5A057ED7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3F2E-33E9-46E9-A52F-0CA31997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D2E6-BD2D-4281-8ED3-5480175A2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8CC6-6F4F-40B3-B475-DA53B8F8A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0220-0DC2-423D-A142-10618B14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273F-BED0-4486-86C5-676C42B2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9B6E-9498-4E57-93B5-59AB22E0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0DE7-6437-487F-9951-6B623DCC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74C4-D488-49EB-920B-C78018E7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1B70-50EA-4C2C-85D7-FE4CD579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4CF1-752E-41A7-AD8A-16317193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383C-BD81-418A-9591-9A6D2D873C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8D7D-6846-4DA3-A887-D74AE300D8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4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55640" y="54936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2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7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230,563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059,937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3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8,690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9,999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3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640" y="1196640"/>
            <a:ext cx="7423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Unexplained jumper incapacity, main deployed, no inpu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edical Condition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malfunction, no action, spiralled to ground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utaway handle pulled, main released, no reserve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, after AAD fire at fast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 after cutaway,  3-ring trapped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AFF Jump, student limp in harness at 300m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utaway by student at 50m, too low for reserv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spirals to ground, jumper may have been incapacitated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lag jump, flag escaped and obscured handles, no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Reserve opened incorrectly due to unstable posit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Landed in tree, killed during rescu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anopy malfunction on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Total 4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1"/>
          <a:stretch/>
        </p:blipFill>
        <p:spPr>
          <a:xfrm>
            <a:off x="6948360" y="18900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353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0 – 1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 6 – 11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Main Canopy  Activation 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Cutaway &amp; Reserve Activ.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22 of the 53 fatalities (42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53 fatalities (19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%) appear to have been caused by human error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5 (9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3 ( 5.7%) of the 53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here was a very wide range of causes of fatalities in 2012, but the underlying factor appears to have been non-adherence to standard and fundamental pract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19 – 36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4,276,101 Solo jumps – 954,462 Tand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.2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Solo Jumps - 22.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he ratio of Tandem to all jumps and to solo jumps is steadily increasing since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3 (5.7%)       Solo Fatalities 50 (94.3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000"/>
            <a:ext cx="754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Power Point presentation and the full 2012 Safety Report, have been sent by e-mail to all respondents and to all other countries for which there are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5) issued in 2013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2 are requested to make a special effort to do so for 2013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14-01-22T19:15:56Z</dcterms:modified>
  <cp:revision>66</cp:revision>
  <dc:subject/>
  <dc:title>SAFETY &amp; TRAINING FORUM 25 January 2003</dc:title>
</cp:coreProperties>
</file>