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6FC65-527F-432C-B5AD-D44482295E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8F84F-FA44-4C32-92B2-88A48BA9952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EDB0-8068-4295-8B27-288C38A41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BD9C-2514-4BAA-A2FA-B1E9ED2CE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6FD4-D73F-4A97-B46D-E02344370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AB99-B2D5-46EA-9DB9-235EDD730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9A40A-16E2-4680-BFCD-E7C5D7A30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185B2-801A-42D9-833B-74B9A6D7A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45366-1616-41EC-9E6B-29FFC63E9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5CC5C-3A99-4205-97D1-F870E2280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082D8-19F1-442A-9342-498411EB2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7542A-078E-40D7-9EDF-C908D1D16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EFB72-CFDB-42A2-8A83-39AD8B16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7D6B-BA8B-4919-9D09-DCC085F52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BF430-4046-43CC-A542-57144A5F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C99AC-708F-42F2-8EA5-605B0FFA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D5632-15B1-4453-9F80-140C43EE7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11078-ECF7-4B17-A241-F5DD26147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5C3E8-3D31-4265-AE5D-AD17F2517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C965-64B1-44D7-962A-6DF6B8396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FD7F-0737-4A4E-A6D8-DA5D513D4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CF8A-EBE8-4520-9B2B-965865C74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57F2-0BDF-4836-8662-B46DC7B94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A074-2701-495C-B6F0-D3D2F393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7AA7-D9E7-4326-A45F-19D0B171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4E72-AF32-40D0-95D0-0C8933B1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08ADA-C095-4552-916F-8E6500F998D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0FCFF-B310-49C2-9716-3CA4FF3977D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5" descr="logo_ipc_01_trait copie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0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0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420,087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164,200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6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97,274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7,639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66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632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0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5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47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71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7" descr="logo_ipc_01_trait copie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5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8176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  -  Intentional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ollisions/Entanglements after ope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/Reserve Entanglement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/no cutaway, Spiralled to ground      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otal 5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5" descr="logo_ipc_01_trait copie"/>
          <p:cNvPicPr/>
          <p:nvPr/>
        </p:nvPicPr>
        <p:blipFill>
          <a:blip r:embed="rId8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7774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 - 23% of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/Intent. 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3 - 20% of 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anopy Collisions/Entanglements           11 – 17% of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These  39 of the 66 fatalities - (59%) were                      canopy handling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5" descr="logo_ipc_01_trait copie"/>
          <p:cNvPicPr/>
          <p:nvPr/>
        </p:nvPicPr>
        <p:blipFill>
          <a:blip r:embed="rId4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4 of the 66 fatalities (67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66 fatalities (59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66 fatalities (16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59 of the 66 fatalities (8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4 (6%) of the  66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   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here were no were Tandem fatalities  in 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640" y="1990440"/>
            <a:ext cx="741672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ontinuing high numbers of fatalities, 39 – 59%,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Over a ten-year period there has been an irregular decrease in the percentages of fatalities among Student and Intermediate jumpers and an irregular increase in the percentage of fatalities with Expert jump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Increased use of AAD and RSL re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5" descr="logo_ipc_01_trait copie"/>
          <p:cNvPicPr/>
          <p:nvPr/>
        </p:nvPicPr>
        <p:blipFill>
          <a:blip r:embed="rId4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 15.1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2009 – 13.5%; 2008 - 12.1%; 2007 - 9.6%; 2006 – 12.2%; 2005 – 10.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5,452,158 Solo jumps –  967,929 Tand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6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10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All 2010 fatalities were Solo jump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4" descr="logo_ipc_01_trait copie"/>
          <p:cNvPicPr/>
          <p:nvPr/>
        </p:nvPicPr>
        <p:blipFill>
          <a:blip r:embed="rId3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99640" y="1483920"/>
            <a:ext cx="7543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10 AAD Report, and Power Point presentations for both Safety and AAD reports, has been sent by e-mail to all respondents and to all other countries for which the 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1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1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11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7) issued in 2011 by T &amp; S Committee of I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200" spc="-1" strike="noStrike">
                <a:solidFill>
                  <a:srgbClr val="ffffff"/>
                </a:solidFill>
                <a:latin typeface="Arial"/>
              </a:rPr>
              <a:t>Learning from the Mistakes of Other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, Skydive Arizona  Accident review 1991 –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by Bryan Burke, S&amp;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10 are requested to make a special effort to do so for 2011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8" descr="logo_ipc_01_trait copie"/>
          <p:cNvPicPr/>
          <p:nvPr/>
        </p:nvPicPr>
        <p:blipFill>
          <a:blip r:embed="rId2"/>
          <a:stretch/>
        </p:blipFill>
        <p:spPr>
          <a:xfrm>
            <a:off x="7021440" y="404640"/>
            <a:ext cx="1328760" cy="93672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10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8-11-04T20:16:36Z</dcterms:modified>
  <cp:revision>80</cp:revision>
  <dc:subject/>
  <dc:title>SAFETY &amp; TRAINING FORUM 25 January 2003</dc:title>
</cp:coreProperties>
</file>