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DFBC-C2E2-42C8-B25B-59FF61A2E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8374-0B5C-4CFE-9C5C-07B3DB9F53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CEDF-85E2-4815-A5A3-C2F08AD72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6DC7-E1F6-4DBB-B310-39926F27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BE61-E5A2-4EED-87C9-484F8A46B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E8CF-E300-4075-9129-C10558717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9D36-32F1-4EA3-B754-0C82BC4E8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3A7E-BA20-4E17-A212-70985FDE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9E37-2DAA-4DB7-937D-3873657D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BAAA-0C6A-4C68-937E-D79D7D82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235A-B3C1-43B4-9159-EA608C2D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C18B-C29C-4200-BCE8-03F8E031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8842-AF8E-403B-B964-8BDB2F41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6277-B713-4158-9F48-25C8F9A9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C1BE-3289-4F16-9E4D-BE8275D6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6A7E-47BA-4B85-9D87-C44D1240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DC71-D188-4751-A85E-A76F947B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F654-D1C1-4D5E-AE23-FD98077BA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6DA3-20C2-4A13-8A04-F2281CDF8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7C3A-BBC3-4B4D-AD37-D5D7AA01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C932-0D05-459D-8CC3-444DFD18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046F-32B5-4EC9-AD3A-57556154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E320-FE82-488A-961E-FEE4733D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255B-174E-4CAB-BE9B-83D02058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5D31-8ADB-4AE3-8738-4E0C2611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7163-91F4-4263-89D5-D90B3B6D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CCE0-0B0F-4BCB-805C-41FE905E55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8A9D-C27B-44B4-A679-C6D2FBE77B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0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420,087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164,200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6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97,274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7,639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66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32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47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71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817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 - 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s/Entanglements after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/no cutaway, Spiralled to ground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logo_ipc_01_trait copie"/>
          <p:cNvPicPr/>
          <p:nvPr/>
        </p:nvPicPr>
        <p:blipFill>
          <a:blip r:embed="rId8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777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 - 23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/Intent. 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 - 20% of 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s/Entanglements           11 – 17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These  39 of the 66 fatalities - (59%) were                      canopy handl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6 fatalities (67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66 fatalities (59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6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9 of the 66 fatalities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4 (6%) of the  66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ere were no were Tandem fatalities  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9 – 59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Over a ten-year period there has been an irregular decrease in the percentages of fatalities among Student and Intermediate jumpers and an irregular increase in the percentage of fatalities with Expert jump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 15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2009 – 13.5%; 2008 - 12.1%; 2007 - 9.6%; 2006 – 12.2%; 2005 – 10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5,452,158 Solo jumps –  967,929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6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All 2010 fatalities were Solo jump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logo_ipc_01_trait copie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483920"/>
            <a:ext cx="7543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10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1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7) issued in 2011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Learning from the Mistakes of Other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, Skydive Arizona  Accident review 1991 –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by Bryan Burke, S&amp;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0 are requested to make a special effort to do so for 2011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11-04T20:16:36Z</dcterms:modified>
  <cp:revision>80</cp:revision>
  <dc:subject/>
  <dc:title>SAFETY &amp; TRAINING FORUM 25 January 2003</dc:title>
</cp:coreProperties>
</file>