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6DAF-DEDA-4B93-A646-6DC7D6AED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B3004-2073-4715-93BD-67D90C282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700FA-20D8-4898-9C95-83C2006A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8E637-EF14-4125-B6DD-EC67DC63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ACA76-C4E1-4AD3-892F-A174C7168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34FA-F78A-4E3E-B1B5-9E341EA2B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B5BF-BC1A-4C1A-A3CF-ACD747B4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D5EC-2E32-4A7C-9576-BDF93D6C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69CB-3304-496D-A782-6FE37992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BE46-504F-468A-97D0-ED8A639A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8548-E70A-436B-994B-44FB6E44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9B30-645D-468A-9824-ED9B64F9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0250D-8558-432B-8186-04538ED8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44E0-1229-481D-B32E-463CC9F5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8D26-9029-4EE0-8B9E-EBF80B86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AFAB-F09E-4DA2-AF2D-781AF132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B8A3-CB20-44D9-963C-2342A29EB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FFE5-9ED4-4AA4-BB1A-634BA928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DFC0B-D10A-4C9A-B7AB-96191819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C5910-6E6F-48FD-B3A9-AA584754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A8EC9-F3F1-4C17-B03D-CCA771AB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7294E-D425-4F39-A9D5-B1035D80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4D2D1-64E3-44DA-A535-C8DBF8DB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C422A-D1A7-4E41-A5AD-F8D18C3A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36DA6-55D9-49EA-8701-99B70193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A0E5-2464-4650-A7B7-05CCCE211E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C82F-D4CB-4385-B798-CD649BF26C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8243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4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5596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,332,756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493,250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3 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100,618 jumps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9,307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              </a:t>
            </a: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53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218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8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1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4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4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1692360" cy="1039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47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8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during CF open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ow cutaway &amp; Line twists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anopy collision during C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unconscious before AAD fir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Hard 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caught cutaway canopy whic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d with jumper’s own mai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Total 4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79311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2% (17) Landing Err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 9) Fast canop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3%  (7) Equipment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IE" sz="28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i="1" lang="en-IE" sz="40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02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66% of the 53 fatalities (18 were discounted for this statistic)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1% - 27 of 53 fatalities, occurred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% - 6 of the 53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79% - 42 of the 53 fatalities,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Emphasis on good and thorough initial and ongoing training is probably the only way in which the big numbers of fatalities, especially from canopy handling/landing, may be reduc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4 AAD Report, and Power Point presentations for both reports, has been sent by e-mail to all respondents and to all other countries for which we have e-mail addresses (72 in total)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–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Visiting Jumper Requirements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Chart 2006 – with details of AADs on the marke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Reserve Life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tudent Canopy Loading Gu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Not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55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6-01-16T20:58:31Z</dcterms:modified>
  <cp:revision>33</cp:revision>
  <dc:subject/>
  <dc:title>SAFETY &amp; TRAINING FORUM 25 January 2003</dc:title>
</cp:coreProperties>
</file>