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3C0CA-E89F-4D36-865F-AB8A0BB850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3CBF1-2E84-40E3-BBAE-97B4C4081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28B1-7052-462D-964C-DBB88AE90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15D3-547F-4F96-B86B-C9124AF0E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E98A-B002-428C-8741-AEF97E46A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A535-B6B4-46CD-97F2-9F2785BC8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387C5-049B-41E6-89E0-FA87F090D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94FC1-FE97-42B5-BBAF-940496E0F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DE1F5-CF42-4A70-89D1-B262D6A4A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ECBB0-3D05-430D-A565-9BCF4B13B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3DAD8-7F81-47F8-9016-8F6DAB7CD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A5CD3-2E78-4F59-A327-858C445F9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4CDF3-E38B-427D-B32A-4CA5D7DB3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058D-F12F-4217-8D68-64257789E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0FB00-609C-49E1-82C3-A27BEFAD1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1DDAB-272D-4878-B05F-5A340ED1D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61E08-3721-42AB-A4BF-CE2F2378A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BC2BB-694B-490B-80DF-EFE30E5BC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F74BB-B90B-441D-B7D7-88990DD73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AEA38-B51F-447E-AE78-2F3D40FF8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4C6E2-6BA6-40A7-B30B-15E481295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D734E-9AE1-4E05-82FF-00EAC192B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0B0B7-A7DC-44BF-8DD7-E1C899F73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EEA28-B1BF-4594-BCD9-006FF70F1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1497-8217-44DF-A21A-F5DFCC3EE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67781-F525-4439-873B-4F71EC3B8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819E8-626B-4DD7-8738-918D950DA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3CF91-30FB-449D-BFD1-3AEE34EA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D0DFC-9347-4E4D-A728-48CF304AB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D7CD8-48D5-42FF-BE19-FB9A5E20A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17CF1-9FB2-4934-A4B9-6FF60A6EC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03068-4394-40D4-9BD4-B4A5FB69E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0BA29-48D8-4042-AECF-F71B8B50E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84D45-32CC-4BAF-89DD-DB7C5780B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FA3FD-04B2-4BF2-AC63-8AA2620B7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6CEC-3097-4E03-B9C8-D9BCDE066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70E20-3B5D-4BDE-BF89-625C60B96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C1564-C47F-4A22-B518-481B2E31E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7C374-2E44-4632-A60E-564CD0E11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247A8-9A50-4C3E-9CE2-F9FEBD774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C515D-694B-4315-9E72-C40851AA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17EEF-D6FA-489C-A01F-985C83F05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6AF58-C503-4EAB-B8F0-8F5365020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E1F73-9120-4D31-87EC-DAFD02A19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6E074-3B78-4E61-9549-010A03267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4A65-B88B-4536-AF4D-DB1D325B7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9A7E-B20F-4794-A448-D5B841FF0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08D0-F186-4E11-B2B8-8B1B576A0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8337-8C27-4F74-BCFF-61775BF74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5D3B-F3BE-49DA-8E4A-8BF76E3C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D5FBC-BC96-454B-8A26-B501B0E1D11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036C7-2BB6-4722-82C0-D3D20651BCDB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83B33-9A1F-4E66-AA87-1C5C391548DD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A75F6-DC4C-4A8B-A6E4-21978083B51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P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7 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7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8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8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18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7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8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36 countries responded, from a possible approximately 85, a response rate of 42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, down on 2016, was similar to previous years and has been about this rate for the 30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7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36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675,733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418,443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51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ere eigh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7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30,897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27,813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51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10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20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6 Intermediate (12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35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6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5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4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4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5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36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ain/Reserve Entanglement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, low cutaway, reserve opening on impact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Drowning or cutaway over water, possibly rendering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jumper unconsciou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Rotating Main Canopy, no act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utaway, reserve incorrectly assembled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Reserve P/C entangled with another’s c/a main, reserve did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not deplo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edical Issu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5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500" spc="-1" strike="noStrike" u="sng">
                <a:solidFill>
                  <a:srgbClr val="000000"/>
                </a:solidFill>
                <a:uFillTx/>
                <a:latin typeface="Arial Unicode MS"/>
              </a:rPr>
              <a:t>Total  42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 - 16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 - 16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 – 12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reefall Collisio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4 – 08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4 (27% of total fatalities, 51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51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30 (59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6 (31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5 (10%) might have been avoided by an AAD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40 (78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Of the 2017 fatalities 6 were First Jump Students,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2 Solo Students and 4 Tandem Students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4 (27% of 51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280"/>
            <a:ext cx="8229600" cy="2160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8.8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419,149 Solo jumps – 1,256,584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8; Solo Fatalities 43 (51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9-01-23T10:01:21Z</dcterms:modified>
  <cp:revision>123</cp:revision>
  <dc:subject/>
  <dc:title>SAFETY &amp; TRAINING FORUM 25 January 2003</dc:title>
</cp:coreProperties>
</file>