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7D86E-DC35-425E-BFF0-24D8583BD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21BD-5AC8-4B12-BCFE-C3F776471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D3FB-04EE-4DA6-BD7E-85EEA053E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0575-A1A8-47A0-9C5D-0105EE927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9D57-6F9A-40F9-893E-42929F6D4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B3912-2105-4B2E-A440-388EC0E0B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907B5-06AD-4FD2-AABE-E8EFE11CB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D192D-163F-4698-9716-D2FD58751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A788E-309E-4C64-89ED-5B1303331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74AD8-6A04-4480-88BC-7DCC7F50B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2F184-BF61-472F-971E-FD7E19DF6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DBB66-3973-4709-8CCD-1EB34C6F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5C3B-4686-4ACA-82CD-B761B949E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84532-E7E7-4AD3-9C15-320C40D9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EC324-6C19-4D0C-B9D1-02675016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93F6C-1890-4A6E-A94F-C397B28B7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21FB2-576C-496B-9A4F-BB00781BA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4B082-13BD-4ACE-B383-043233D70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F9FC-8EE3-4000-9D91-36CF0B08B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97A4-1401-461B-9220-FF27D48E7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EEFA-7E74-46E5-A595-3ABFECD7A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A674-E6E8-49A5-85CA-96340F35B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71A4-7BD0-4404-A90A-1B05150CD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0A49-94B8-4C3A-8143-57A754D6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0DD7-EE0C-4097-A94A-6D335297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EA044-98DA-48FD-8C64-971B4E24226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A58C6-DFCE-4002-98FE-C42B6169792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4.jpe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59054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08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4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770,169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18,436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70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82,43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3,121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70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8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3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9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9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563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58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2920" y="1915920"/>
            <a:ext cx="7423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Main/Reserve Entanglement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Equipment issues/problem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Hard Openings –  1 dead on landing, 1 ruptured aorta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Low Canopy Collision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ut of sequence Reserve Deployment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2"/>
          <a:stretch/>
        </p:blipFill>
        <p:spPr>
          <a:xfrm>
            <a:off x="7093080" y="765000"/>
            <a:ext cx="1511280" cy="9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618920" y="2349000"/>
            <a:ext cx="59770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17 – 24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11 – 16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Medical Issues   8 – 11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000" y="1918800"/>
            <a:ext cx="800244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8 of the 70 fatalities (69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5 of the 70 fatalities (50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70 fatalities (14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7 of the 70 fatalities (67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8  (11.4%)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of the 70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6  (  8.6%) of the 70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74167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, 35 – 50%, resulting from canopy handling and landing issues – a continuing concer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talities from Medical Issues, minimum 8 – 11.4%.  See Medical Requirements Survey Report by T&amp;S Committee and Elisabet Pettersson presentation –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Medical and Disability Considerations in Skydiv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2.1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9.6% in 2007; 12.2% in 2006; 10.4% in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073,891 Solo jumps – 696,278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  4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6 (8.6%)       Solo Fatalities 64 (91.4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08 AAD Report, and Power Point presentations for both reports, has been sent by e-mail to all respondents and to all other countries for which we have e-mail addresses.  CDs are available to IPC Delegates and to those 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9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9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9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6) issued in 2009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Medical Requirements Survey Re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200" spc="-1" strike="noStrike">
                <a:solidFill>
                  <a:srgbClr val="ffffff"/>
                </a:solidFill>
                <a:latin typeface="Arial"/>
              </a:rPr>
              <a:t>Medical &amp; Disability Considerations in Parachuting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 – Presentation by Ms Elisabet Petterss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08 are requested to make a special effort to do so for 2009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020000" y="765000"/>
            <a:ext cx="1328760" cy="7700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10-01-21T12:56:55Z</dcterms:modified>
  <cp:revision>62</cp:revision>
  <dc:subject/>
  <dc:title>SAFETY &amp; TRAINING FORUM 25 January 2003</dc:title>
</cp:coreProperties>
</file>