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80121-3921-4A93-A1E8-D09821101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7EDF-438E-40EF-B710-A2869B239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3160-64F1-45EB-B30E-0530EDA13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488C-026D-4BBC-AF0D-4DCEBE51A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98FB-E586-4F31-BCBB-A9455CA50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EC5FD-436A-4E2F-8798-4CA8218A0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C1533-BFAD-4502-ADF2-5189F07D0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03C84-847F-4EE0-824E-F4131AA1D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C5BBA-B82A-4D1B-B7AB-1585E41FE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ADB8F-8C95-454E-A88B-5F376A0F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56E2E-A66B-4F47-8BB8-E7187A0B8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A8D42-3CC4-41F0-AC85-5862622F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17DE-9C78-4E22-A6FB-284888DAC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5A47C-CEE4-4207-A064-214AF5DB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F2BDF-22A0-4780-B8F8-3551B99B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1B3DA-BC2D-462D-8510-56EBA79BB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85BA3-5E18-4156-8B7B-E4D7B01AA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86991-717E-4758-A7BC-0CFE1A18C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CCB6-9F61-4E1B-A66B-27F8D4CC9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2524-45F6-498B-8FB4-CDF8CA737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BEB1-02C4-4B36-90DF-67A79A52B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704B-776B-4C8C-AFF7-C7F0F8ABD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4B63-42C4-4882-8F47-3BB359BB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DC8D-BEF0-4275-BA5C-6C018C1C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7EF0-3FC2-414C-BFB0-2FBE9327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94FEC-B52C-4E07-AFC0-F7751C223B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08E65-1420-4065-B7DA-437B067C7C5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4.jpe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59054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08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4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770,169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18,436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70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82,43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3,121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70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8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3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9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9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56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58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2920" y="1915920"/>
            <a:ext cx="7423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Main/Reserve Entanglement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Equipment issues/problem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Hard Openings –  1 dead on landing, 1 ruptured aorta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Low Canopy Collision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ut of sequence Reserve Deployment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2"/>
          <a:stretch/>
        </p:blipFill>
        <p:spPr>
          <a:xfrm>
            <a:off x="7093080" y="765000"/>
            <a:ext cx="1511280" cy="9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618920" y="2349000"/>
            <a:ext cx="59770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17 – 24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11 – 16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Medical Issues   8 – 11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000" y="1918800"/>
            <a:ext cx="800244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8 of the 70 fatalities (69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5 of the 70 fatalities (50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70 fatalities (14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7 of the 70 fatalities (67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8  (11.4%)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of the 70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6  (  8.6%) of the 70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4167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, 35 – 50%, resulting from canopy handling and landing issues – a continuing concer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talities from Medical Issues, minimum 8 – 11.4%.  See Medical Requirements Survey Report by T&amp;S Committee and Elisabet Pettersson presentation –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Medical and Disability Considerations in Skydiv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2.1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9.6% in 2007; 12.2% in 2006; 10.4% in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073,891 Solo jumps – 696,278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  4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6 (8.6%)       Solo Fatalities 64 (91.4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08 AAD Report, and Power Point presentations for both reports, has been sent by e-mail to all respondents and to all other countries for which we have e-mail addresses.  CDs are available to IPC Delegates and to those 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9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9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9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6) issued in 2009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Medical Requirements Survey Re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200" spc="-1" strike="noStrike">
                <a:solidFill>
                  <a:srgbClr val="ffffff"/>
                </a:solidFill>
                <a:latin typeface="Arial"/>
              </a:rPr>
              <a:t>Medical &amp; Disability Considerations in Parachuting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 – Presentation by Ms Elisabet Petterss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08 are requested to make a special effort to do so for 2009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020000" y="765000"/>
            <a:ext cx="1328760" cy="7700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10-01-21T12:56:55Z</dcterms:modified>
  <cp:revision>62</cp:revision>
  <dc:subject/>
  <dc:title>SAFETY &amp; TRAINING FORUM 25 January 2003</dc:title>
</cp:coreProperties>
</file>