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6704-EE86-4300-8A49-ACE0F4AD6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4C08-AE7A-432C-BE8F-9165FBF8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8E34-53CB-49E0-B730-94747CDD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0B15-1DBF-4603-9929-6563C712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3365-93CA-4C07-A166-F44871E0C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8D1B-F580-4ABE-B6F9-DA08AE64E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3E60-91B7-4DF9-8CB6-B763F884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1419-D9C0-45AC-8645-F252393A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8B2D-F7AB-47D6-81A2-008BFC33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5C85-15F0-4552-93E8-EC68ABFE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5173-6E36-4BB6-A5E5-B93AA0AC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1CB3-8D30-488F-865E-9B999FF9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F05B-7F3C-479B-9899-88673988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A4C9-0BC1-49E4-A279-CBAB3483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8BB6-F939-4A86-B3E8-192E2DEF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88FE-EFCD-4DE6-BD61-161057F8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BBA4-CFC8-4E3A-9631-46BC82E21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EFE7-3ACF-417B-990E-7E84E31B9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6468-B69F-49A0-9E3B-B504D2AA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9C95-2C35-44E0-B6FB-5809B817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3234-1410-473A-9771-C0981E5F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95CA-175C-40B5-8A40-2766A11D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792D-873F-44ED-8AFF-90BE2828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6591-DAA1-4771-9FE2-D69B5303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C849-522D-46D5-9E3D-D9C6A6B7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E4D6-109E-4857-9906-3B1ECB9FAA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F387-2BC9-4E75-9CAA-63D2381C1F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08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4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770,169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18,436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70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2,43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3,121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70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8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3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9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42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Equipment issues/problem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Hard Openings –  1 dead on landing, 1 ruptured aorta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Low Canopy Collision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ut of sequence Reserve Deploy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7093080" y="765000"/>
            <a:ext cx="151128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18920" y="2349000"/>
            <a:ext cx="5977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7 – 24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11 – 16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Medical Issues   8 – 11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8 of the 70 fatalities (69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5 of the 70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70 fatalities (14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7 of the 70 fatalities (67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8  (11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70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  8.6%) of the 70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35 – 50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minimum 8 – 11.4%.  See Medical Requirements Survey Report by T&amp;S Committee and Elisabet Pettersson presentation –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Medical and Disability Considerations in Skyd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2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 in 2007; 12.2% in 2006; 10.4%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073,891 Solo jumps – 696,278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6 (8.6%)       Solo Fatalities 64 (91.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8 AAD Report, and Power Point presentations for both reports, has been sent by e-mail to all respondents and to all other countries for which we have e-mail addresses.  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9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6) issued in 2009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Medical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Medical &amp; Disability Considerations in Parachuting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 – Presentation by Ms Elisabet Petters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8 are requested to make a special effort to do so for 2009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0-01-21T12:56:55Z</dcterms:modified>
  <cp:revision>62</cp:revision>
  <dc:subject/>
  <dc:title>SAFETY &amp; TRAINING FORUM 25 January 2003</dc:title>
</cp:coreProperties>
</file>