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3634B-3FC3-4247-9F7B-DBEDBBF232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F033B2-83CB-4341-BFF2-13FA3809D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42EDBB-B355-4C22-8C7E-A0109BCE6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7F2E9E-468C-43A6-9158-A1DC410EA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0010EE-E2CB-4F58-AE42-3D83FA118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7CEDF-D243-4E6A-920B-919841135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DBD36-79B6-4329-9545-5066CF1B4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C3328-7601-4F27-BEFA-65FB5E002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9CF6B-48C0-4D1E-833D-1207D2402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415AE-70C5-4D46-85BC-3B7A62F83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F0D4E-5B14-434A-8BAD-9E06E37C8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CCF87-CAB8-4401-83AC-24392DE84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DF7E09-037F-4A92-AB99-1048BD05A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AED22-46C2-4980-B902-95627F677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FC131-588A-4ABE-B469-B1BFBE285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57C4D-AED8-4993-B633-55A929E0F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AF422-4D68-40CA-90DA-94BBE099F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47185-C50F-4332-94CA-F3AC1CB0B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AD7A05-1716-4477-80F9-09AE366B6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CD068-F513-40E8-87D3-C4E22E060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A3CDBA-833D-4142-B6F4-F10F864D9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463465-93FD-4202-A4E2-BFD26D2AE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B5812-66A3-41CC-A9A8-B30A8B0E8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072B1D-B091-4491-B156-3A1185F6D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BB70C2-F6E2-4786-9164-1E3BE20D8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31D55-D3B5-4D32-AA23-EF3545E1E78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DEC90-74F1-46DE-85D5-BB18E771391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00000" y="620280"/>
            <a:ext cx="77724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TECHNICAL &amp; SAFETY COMMITTEE</a:t>
            </a:r>
            <a:br>
              <a:rPr sz="3600"/>
            </a:b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99640" y="4941720"/>
            <a:ext cx="75596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International Parachuting Commission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FAI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0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IE" sz="4400" spc="-1" strike="noStrike">
                <a:solidFill>
                  <a:srgbClr val="e5e5ff"/>
                </a:solidFill>
                <a:latin typeface="Arial"/>
              </a:rPr>
              <a:t>2003 Safety Repor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In 39 responding countr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82 people were killed skydivin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6,335,624 skydives were made b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402,513 jumpe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 Fatality per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77,263 jump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4,909 jumpe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edg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768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" dur="768" fill="hold"/>
                                        <p:tgtEl>
                                          <p:spTgt spid="10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" dur="768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" dur="768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e5e5ff"/>
                </a:solidFill>
                <a:latin typeface="Arial"/>
              </a:rPr>
              <a:t>82 Fatalities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4 Students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(17%)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0-25 Freefall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8 Intermed.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(34%)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6-250 Freefall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40 Experts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(49%)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51 + Freefall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Total 8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Cutaway/No or low reserve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No pull/low pull on main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Others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55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Total 8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edge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768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" dur="768" fill="hold"/>
                                        <p:tgtEl>
                                          <p:spTgt spid="11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" dur="768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" dur="768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‘</a:t>
            </a: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Other’ Fatalities (55)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Landing Errors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Fast Canopies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Freefall Collision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5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Equipment problems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4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Tandem Fatalities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4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Canopy Collision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4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Turn from 800m to ground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Main/Reserve downplane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Heart attack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Jumpers striking aircraft in air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Jumper unconscious, landed on hard surface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Canopy deflated close to ground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Reserve malfunction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Jumper’s feet entangled in lines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Possible suicide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Suspected murder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Causes not reported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2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Total 5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e5e5ff"/>
                </a:solidFill>
                <a:latin typeface="Arial"/>
              </a:rPr>
              <a:t>Fatalities – Largest Group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2405160"/>
            <a:ext cx="8229600" cy="34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8% (15) Landing Erro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3% (11) Fast canopi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0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3% (11) Cut-away &amp; low reserve pul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4" marL="199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3% (11) No or low pull on mai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4" marL="199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6%  (5) Freefall collis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6%  (5) Cut-away and no reserve pull </a:t>
            </a:r>
            <a:r>
              <a:rPr b="0" lang="en-IE" sz="2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en-IE" sz="4800" spc="-1" strike="noStrike">
                <a:solidFill>
                  <a:srgbClr val="e5e5ff"/>
                </a:solidFill>
                <a:latin typeface="Arial"/>
              </a:rPr>
              <a:t>Some Significant Figures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79% of 65 fatalities (17 were discounted for this statistic)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39% of 82 fatalities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20% of fatalities (16) might have been avoided by AAD us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77% of fatalities (63)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2 of the 82 Fatalities were First Jump Students (1 Solo and 1 Tandem Passenger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68000" y="1557000"/>
            <a:ext cx="821844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Increased use of AA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Round Main Canopies being used les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Big movement towards Tandem jumping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This report, along with 2003 AAD Report, and Power Point presentations for both reports, has been sent by e-mail to all respondents and to all other countries for which we have e-mail addresses.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Ds with the reports and presentations are available to IPC delegates and to those who request copies. delegate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e5e5ff"/>
                </a:solidFill>
                <a:latin typeface="Arial"/>
              </a:rPr>
              <a:t>Some Continuing Trend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Blue Skies – or Grey Concrete!!!</a:t>
            </a:r>
            <a:br>
              <a:rPr sz="3600"/>
            </a:br>
            <a:r>
              <a:rPr b="1" lang="en-IE" sz="1600" spc="-1" strike="noStrike">
                <a:solidFill>
                  <a:srgbClr val="e5e5ff"/>
                </a:solidFill>
                <a:latin typeface="Arial"/>
              </a:rPr>
              <a:t>Thanks to Rix at Skydive Zimbabwe for permission to use this photograph.</a:t>
            </a:r>
            <a:endParaRPr b="1" lang="en-US" sz="1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1280" y="1557360"/>
            <a:ext cx="792144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05-01-15T11:01:13Z</dcterms:modified>
  <cp:revision>20</cp:revision>
  <dc:subject/>
  <dc:title>SAFETY &amp; TRAINING FORUM 25 January 2003</dc:title>
</cp:coreProperties>
</file>