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ABF91-F7B5-460A-8372-1557CF99FE2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2071-3AAD-4B59-92AE-3F1859641CE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C217-63CB-4CCE-A61A-2D700B77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7E6-C802-4897-9C13-86D8648F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5D9E-ADAB-4930-8550-B415E90E9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577-D1C2-474D-9391-F8938606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238E-69BD-484F-BBA7-01C369036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23C5-3883-4AE4-9296-BBB4D689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D4D8-3E24-4B6A-8421-EC892996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C94-C005-44EA-A58B-DE514462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AD26-112C-449B-ABA0-773EC998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E926-6F52-4177-A5F5-DD1F623B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C8E0-37AD-4412-884F-C5B474F8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3C3-7741-46C2-8B66-580B4563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3651F-D2C7-4FA7-B554-CCEA12D436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Overview DZ new 300912"/>
          <p:cNvPicPr/>
          <p:nvPr/>
        </p:nvPicPr>
        <p:blipFill>
          <a:blip r:embed="rId1"/>
          <a:stretch/>
        </p:blipFill>
        <p:spPr>
          <a:xfrm>
            <a:off x="1703520" y="0"/>
            <a:ext cx="744048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-87120" y="2860560"/>
            <a:ext cx="1902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etition Sites new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ndial 2012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Logo Mondial 2012 new"/>
          <p:cNvPicPr/>
          <p:nvPr/>
        </p:nvPicPr>
        <p:blipFill>
          <a:blip r:embed="rId3"/>
          <a:stretch/>
        </p:blipFill>
        <p:spPr>
          <a:xfrm>
            <a:off x="60480" y="539892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52" name="Line 13"/>
          <p:cNvSpPr/>
          <p:nvPr/>
        </p:nvSpPr>
        <p:spPr>
          <a:xfrm>
            <a:off x="4135320" y="5284800"/>
            <a:ext cx="4608720" cy="576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 rot="357000">
            <a:off x="5819400" y="5289480"/>
            <a:ext cx="1343520" cy="27648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5,3 km (3,3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6966000" y="5865840"/>
            <a:ext cx="1566720" cy="85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Horse Race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anopy Formation/Styl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7326000" y="2557440"/>
            <a:ext cx="15692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dditional D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tistic Events/Accura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8"/>
          <p:cNvSpPr/>
          <p:nvPr/>
        </p:nvSpPr>
        <p:spPr>
          <a:xfrm flipV="1">
            <a:off x="4140360" y="2814480"/>
            <a:ext cx="2952720" cy="244800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9"/>
          <p:cNvSpPr/>
          <p:nvPr/>
        </p:nvSpPr>
        <p:spPr>
          <a:xfrm rot="19197600">
            <a:off x="5325120" y="3819240"/>
            <a:ext cx="1343520" cy="276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5 km (2,8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0"/>
          <p:cNvSpPr/>
          <p:nvPr/>
        </p:nvSpPr>
        <p:spPr>
          <a:xfrm>
            <a:off x="7093080" y="2735280"/>
            <a:ext cx="1655640" cy="309564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>
            <a:off x="7326000" y="3743280"/>
            <a:ext cx="1343520" cy="2764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2"/>
          <p:cNvSpPr/>
          <p:nvPr/>
        </p:nvSpPr>
        <p:spPr>
          <a:xfrm>
            <a:off x="1770120" y="2630520"/>
            <a:ext cx="5249880" cy="198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3"/>
          <p:cNvSpPr/>
          <p:nvPr/>
        </p:nvSpPr>
        <p:spPr>
          <a:xfrm>
            <a:off x="3628800" y="27082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6,0 km (3,7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 rot="2086800">
            <a:off x="7048080" y="2459160"/>
            <a:ext cx="216000" cy="503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5"/>
          <p:cNvSpPr/>
          <p:nvPr/>
        </p:nvSpPr>
        <p:spPr>
          <a:xfrm flipH="1" flipV="1">
            <a:off x="1763280" y="2636640"/>
            <a:ext cx="2373480" cy="26031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6"/>
          <p:cNvSpPr/>
          <p:nvPr/>
        </p:nvSpPr>
        <p:spPr>
          <a:xfrm>
            <a:off x="1790640" y="1878120"/>
            <a:ext cx="177804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Palm Jumeir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Formation Skydiving/Artis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7"/>
          <p:cNvSpPr/>
          <p:nvPr/>
        </p:nvSpPr>
        <p:spPr>
          <a:xfrm>
            <a:off x="2068200" y="3782880"/>
            <a:ext cx="1343520" cy="276480"/>
          </a:xfrm>
          <a:prstGeom prst="rect">
            <a:avLst/>
          </a:prstGeom>
          <a:noFill/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4,0 km (2,5 Mi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8"/>
          <p:cNvSpPr/>
          <p:nvPr/>
        </p:nvSpPr>
        <p:spPr>
          <a:xfrm>
            <a:off x="2410560" y="5553000"/>
            <a:ext cx="1727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Skydive Dubai DZ Accura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Landing/Canopy Pilo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Palm Jumeirah alternate DZs"/>
          <p:cNvPicPr/>
          <p:nvPr/>
        </p:nvPicPr>
        <p:blipFill>
          <a:blip r:embed="rId1"/>
          <a:stretch/>
        </p:blipFill>
        <p:spPr>
          <a:xfrm>
            <a:off x="1711440" y="22320"/>
            <a:ext cx="7397640" cy="6805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8" name="Line 3"/>
          <p:cNvSpPr/>
          <p:nvPr/>
        </p:nvSpPr>
        <p:spPr>
          <a:xfrm flipH="1">
            <a:off x="4859280" y="2578320"/>
            <a:ext cx="406800" cy="2380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"/>
          <p:cNvSpPr/>
          <p:nvPr/>
        </p:nvSpPr>
        <p:spPr>
          <a:xfrm flipV="1">
            <a:off x="4311720" y="2790720"/>
            <a:ext cx="1320840" cy="20844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5"/>
          <p:cNvSpPr/>
          <p:nvPr/>
        </p:nvSpPr>
        <p:spPr>
          <a:xfrm rot="604800">
            <a:off x="1953720" y="2220840"/>
            <a:ext cx="414360" cy="1033560"/>
          </a:xfrm>
          <a:prstGeom prst="octagon">
            <a:avLst>
              <a:gd name="adj" fmla="val 29287"/>
            </a:avLst>
          </a:prstGeom>
          <a:noFill/>
          <a:ln w="381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 rot="16666800">
            <a:off x="1705320" y="262080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DZ FS/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Logo Mondial 2012 new"/>
          <p:cNvPicPr/>
          <p:nvPr/>
        </p:nvPicPr>
        <p:blipFill>
          <a:blip r:embed="rId2"/>
          <a:stretch/>
        </p:blipFill>
        <p:spPr>
          <a:xfrm>
            <a:off x="38160" y="6984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ogo Mondial 2012 new"/>
          <p:cNvPicPr/>
          <p:nvPr/>
        </p:nvPicPr>
        <p:blipFill>
          <a:blip r:embed="rId3"/>
          <a:stretch/>
        </p:blipFill>
        <p:spPr>
          <a:xfrm>
            <a:off x="31680" y="5830920"/>
            <a:ext cx="16160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DZ Option C close look"/>
          <p:cNvPicPr/>
          <p:nvPr/>
        </p:nvPicPr>
        <p:blipFill>
          <a:blip r:embed="rId1"/>
          <a:stretch/>
        </p:blipFill>
        <p:spPr>
          <a:xfrm>
            <a:off x="1728720" y="31680"/>
            <a:ext cx="7380360" cy="67899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-7920" y="2860560"/>
            <a:ext cx="17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op Zone n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rmation Skydiv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Logo Mondial 2012 new"/>
          <p:cNvPicPr/>
          <p:nvPr/>
        </p:nvPicPr>
        <p:blipFill>
          <a:blip r:embed="rId2"/>
          <a:stretch/>
        </p:blipFill>
        <p:spPr>
          <a:xfrm>
            <a:off x="38160" y="171360"/>
            <a:ext cx="161604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5"/>
          <p:cNvSpPr/>
          <p:nvPr/>
        </p:nvSpPr>
        <p:spPr>
          <a:xfrm rot="271800">
            <a:off x="2814480" y="1811160"/>
            <a:ext cx="1150920" cy="316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 rot="16483800">
            <a:off x="2630880" y="30985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ogo Mondial 2012 new"/>
          <p:cNvPicPr/>
          <p:nvPr/>
        </p:nvPicPr>
        <p:blipFill>
          <a:blip r:embed="rId3"/>
          <a:stretch/>
        </p:blipFill>
        <p:spPr>
          <a:xfrm>
            <a:off x="34920" y="5686560"/>
            <a:ext cx="161604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8" descr="MCj03971160000[1]"/>
          <p:cNvPicPr/>
          <p:nvPr/>
        </p:nvPicPr>
        <p:blipFill>
          <a:blip r:embed="rId4"/>
          <a:stretch/>
        </p:blipFill>
        <p:spPr>
          <a:xfrm>
            <a:off x="4427640" y="3105000"/>
            <a:ext cx="380880" cy="395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9" descr="MCj03971160000[1]"/>
          <p:cNvPicPr/>
          <p:nvPr/>
        </p:nvPicPr>
        <p:blipFill>
          <a:blip r:embed="rId5"/>
          <a:stretch/>
        </p:blipFill>
        <p:spPr>
          <a:xfrm>
            <a:off x="2050920" y="1989000"/>
            <a:ext cx="381240" cy="3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MCj03971160000[1]"/>
          <p:cNvPicPr/>
          <p:nvPr/>
        </p:nvPicPr>
        <p:blipFill>
          <a:blip r:embed="rId6"/>
          <a:stretch/>
        </p:blipFill>
        <p:spPr>
          <a:xfrm>
            <a:off x="1908000" y="400536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4211640" y="35514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 rot="16414800">
            <a:off x="1619640" y="292284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Alternate DZ FS-AE"/>
          <p:cNvPicPr/>
          <p:nvPr/>
        </p:nvPicPr>
        <p:blipFill>
          <a:blip r:embed="rId1"/>
          <a:stretch/>
        </p:blipFill>
        <p:spPr>
          <a:xfrm>
            <a:off x="1893960" y="0"/>
            <a:ext cx="7250040" cy="6821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Logo Mondial 2012 new"/>
          <p:cNvPicPr/>
          <p:nvPr/>
        </p:nvPicPr>
        <p:blipFill>
          <a:blip r:embed="rId2"/>
          <a:stretch/>
        </p:blipFill>
        <p:spPr>
          <a:xfrm>
            <a:off x="76320" y="214200"/>
            <a:ext cx="1616040" cy="838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Logo Mondial 2012 new"/>
          <p:cNvPicPr/>
          <p:nvPr/>
        </p:nvPicPr>
        <p:blipFill>
          <a:blip r:embed="rId3"/>
          <a:stretch/>
        </p:blipFill>
        <p:spPr>
          <a:xfrm>
            <a:off x="66600" y="5543640"/>
            <a:ext cx="1616040" cy="838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-26640" y="2031840"/>
            <a:ext cx="1732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itional Dro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dial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mation Skydiving 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tistic Ev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 rot="2455200">
            <a:off x="6516720" y="2997000"/>
            <a:ext cx="1008000" cy="151272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 rot="18775800">
            <a:off x="6333120" y="35096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nding ar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8" descr="MCj03971160000[1]"/>
          <p:cNvPicPr/>
          <p:nvPr/>
        </p:nvPicPr>
        <p:blipFill>
          <a:blip r:embed="rId4"/>
          <a:stretch/>
        </p:blipFill>
        <p:spPr>
          <a:xfrm>
            <a:off x="5859360" y="3105000"/>
            <a:ext cx="381240" cy="3952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9"/>
          <p:cNvSpPr/>
          <p:nvPr/>
        </p:nvSpPr>
        <p:spPr>
          <a:xfrm>
            <a:off x="5643000" y="280656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  <a:ea typeface="Arial"/>
              </a:rPr>
              <a:t>Rescue b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MCj03971160000[1]"/>
          <p:cNvPicPr/>
          <p:nvPr/>
        </p:nvPicPr>
        <p:blipFill>
          <a:blip r:embed="rId5"/>
          <a:stretch/>
        </p:blipFill>
        <p:spPr>
          <a:xfrm>
            <a:off x="6423120" y="2492280"/>
            <a:ext cx="38088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3:40:15Z</dcterms:created>
  <dc:creator>H. Schlecht</dc:creator>
  <dc:description/>
  <dc:language>en-US</dc:language>
  <cp:lastModifiedBy>Liam</cp:lastModifiedBy>
  <dcterms:modified xsi:type="dcterms:W3CDTF">2012-10-24T10:18:25Z</dcterms:modified>
  <cp:revision>10</cp:revision>
  <dc:subject/>
  <dc:title>Folie 1</dc:title>
</cp:coreProperties>
</file>